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3F155-C71D-45BB-856B-C00D0D89E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0C9B4-9D4C-472E-A9EE-FF7C5E31C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D04C8-6C59-45DB-BEF4-24B030DA6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F8A6A-BFF2-4A24-800A-267DE0089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6D258-7334-4214-93F7-EF197053C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2EE3C-F47C-4892-9B81-6A1D67029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03AEA-B2E7-4439-AB88-81E4DFBC8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FCA86-1A69-4233-A88E-1E5A3830E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D0479-E8FC-4D73-B559-2A86A75EA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3E893-C7E8-42DD-ADF0-8BCE0FBFD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04CE0-E836-4A22-9CEF-3DBB5A24F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7AB08-F0BC-44D7-931C-0B6A3B128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66AD-DCA9-4CEF-85DB-D4BAB5785E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Cuando ciertas personas están con alguna enfermedad grave o potencialmente fatal, cuestionan: ¿No sería falta de fe utilizar medicinas o hacer una cirugía?  ¿Un tratamiento natural con hierbas y confiar en Dios resuelve el proble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5000"/>
          </a:bodyPr>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a:t>
            </a:r>
            <a:r>
              <a:rPr b="1" lang="es-ES_tradnl" sz="2400" spc="-1" strike="noStrike">
                <a:solidFill>
                  <a:srgbClr val="000000"/>
                </a:solidFill>
                <a:latin typeface="Footlight MT Light"/>
              </a:rPr>
              <a:t>Hacer uso de los agentes curativos que Dios ha suministrado para aliviar el dolor y para ayudar a la naturaleza en su obra restauradora no es negar nuestra fe. . . Dios nos ha facultado para que conozcamos las leyes de la vida.  Este conocimiento ha sido puesto a nuestro alcance para que lo usemos.  Debemos aprovechar toda facilidad para la restauración de la salud, sacando todas las ventajas posibles y trabajando en armonía con las leyes naturales.  Cuando hemos orado por la curación del enfermo, podemos trabajar con energía tanto mayor, dando gracias a Dios por el privilegio de cooperar con él y pidiéndole que bendiga los medios de curación que él mismo dispuso”. </a:t>
            </a:r>
            <a:r>
              <a:rPr b="1" i="1" lang="es-ES_tradnl" sz="2000" spc="-1" strike="noStrike">
                <a:solidFill>
                  <a:srgbClr val="000000"/>
                </a:solidFill>
                <a:latin typeface="Footlight MT Light"/>
              </a:rPr>
              <a:t>(El Ministerio de Curación, pág. 17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533520"/>
            <a:ext cx="9144000" cy="6858000"/>
          </a:xfrm>
          <a:prstGeom prst="rect">
            <a:avLst/>
          </a:prstGeom>
          <a:ln w="0">
            <a:noFill/>
          </a:ln>
        </p:spPr>
      </p:pic>
      <p:sp>
        <p:nvSpPr>
          <p:cNvPr id="63" name="PlaceHolder 1"/>
          <p:cNvSpPr>
            <a:spLocks noGrp="1"/>
          </p:cNvSpPr>
          <p:nvPr>
            <p:ph/>
          </p:nvPr>
        </p:nvSpPr>
        <p:spPr>
          <a:xfrm>
            <a:off x="457200" y="1599840"/>
            <a:ext cx="8229600" cy="391644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Footlight MT Light"/>
              </a:rPr>
              <a:t>Ellen White escribió: </a:t>
            </a:r>
            <a:endParaRPr b="0" lang="en-US" sz="4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Footlight MT Light"/>
              </a:rPr>
              <a:t>“</a:t>
            </a:r>
            <a:r>
              <a:rPr b="1" i="1" lang="es-ES_tradnl" sz="4000" spc="-1" strike="noStrike">
                <a:solidFill>
                  <a:srgbClr val="000000"/>
                </a:solidFill>
                <a:latin typeface="Footlight MT Light"/>
              </a:rPr>
              <a:t>Este conocimiento ha sido puesto a nuestro alcance para que lo usemos”. </a:t>
            </a:r>
            <a:r>
              <a:rPr b="1" i="1" lang="es-ES_tradnl" sz="3200" spc="-1" strike="noStrike">
                <a:solidFill>
                  <a:srgbClr val="000000"/>
                </a:solidFill>
                <a:latin typeface="Footlight MT Light"/>
              </a:rPr>
              <a:t>(Ibí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1752120"/>
            <a:ext cx="8229600" cy="39927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Pero, ¿Cristo no hacía curas milagrosas? ¿No prometió que sus siervos también lo harían? ¿La iglesia no debía operar milagros de cura como las demás iglesias están hacie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l Espíritu de Profecía responde:</a:t>
            </a:r>
            <a:endParaRPr b="0" lang="en-US" sz="3200" spc="-1" strike="noStrike">
              <a:solidFill>
                <a:srgbClr val="000000"/>
              </a:solidFill>
              <a:latin typeface="Arial"/>
            </a:endParaRPr>
          </a:p>
          <a:p>
            <a:pPr marL="335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a:t>
            </a:r>
            <a:r>
              <a:rPr b="1" lang="es-ES_tradnl" sz="2400" spc="-1" strike="noStrike">
                <a:solidFill>
                  <a:srgbClr val="000000"/>
                </a:solidFill>
                <a:latin typeface="Footlight MT Light"/>
              </a:rPr>
              <a:t>La forma como Cristo obró consistió en predicar la Palabra y en aliviar los sufrimientos mediante obras milagrosas de curación.  Pero se me ha dicho que hoy no podemos obrar en la misma forma, porque Satanás ejercerá su poder realizando milagros.  Los siervos de Dios de hoy no podrían obrar mediante milagros, porque se realizarán obras espurias de curación que se harán pasar por divinas” </a:t>
            </a:r>
            <a:r>
              <a:rPr b="1" i="1" lang="es-ES_tradnl" sz="2000" spc="-1" strike="noStrike">
                <a:solidFill>
                  <a:srgbClr val="000000"/>
                </a:solidFill>
                <a:latin typeface="Footlight MT Light"/>
              </a:rPr>
              <a:t>(Eventos de los últimos días, pág. 173).</a:t>
            </a:r>
            <a:endParaRPr b="0" lang="en-US" sz="2000" spc="-1" strike="noStrike">
              <a:solidFill>
                <a:srgbClr val="000000"/>
              </a:solidFill>
              <a:latin typeface="Arial"/>
            </a:endParaRPr>
          </a:p>
          <a:p>
            <a:pPr marL="335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a:t>
            </a:r>
            <a:r>
              <a:rPr b="1" lang="es-ES_tradnl" sz="2400" spc="-1" strike="noStrike">
                <a:solidFill>
                  <a:srgbClr val="000000"/>
                </a:solidFill>
                <a:latin typeface="Footlight MT Light"/>
              </a:rPr>
              <a:t>El pueblo de Dios no encontrará seguridad en los milagros, porque Satanás puede falsificar cualquier milagro que se logre hacer” </a:t>
            </a:r>
            <a:r>
              <a:rPr b="1" i="1" lang="es-ES_tradnl" sz="2000" spc="-1" strike="noStrike">
                <a:solidFill>
                  <a:srgbClr val="000000"/>
                </a:solidFill>
                <a:latin typeface="Footlight MT Light"/>
              </a:rPr>
              <a:t>(Cada día con Dios, pág. 6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Footlight MT Light"/>
              </a:rPr>
              <a:t>La estrategia de la Iglesia es:</a:t>
            </a:r>
            <a:endParaRPr b="0" lang="en-US" sz="40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t>
            </a:r>
            <a:r>
              <a:rPr b="1" lang="es-ES_tradnl" sz="3200" spc="-1" strike="noStrike">
                <a:solidFill>
                  <a:srgbClr val="000000"/>
                </a:solidFill>
                <a:latin typeface="Footlight MT Light"/>
              </a:rPr>
              <a:t>El evangelismo médico misionero se debería promover de la manera más inteligente y cabal que se pueda”. </a:t>
            </a:r>
            <a:r>
              <a:rPr b="1" i="1" lang="es-ES_tradnl" sz="2800" spc="-1" strike="noStrike">
                <a:solidFill>
                  <a:srgbClr val="000000"/>
                </a:solidFill>
                <a:latin typeface="Footlight MT Light"/>
              </a:rPr>
              <a:t>(Consejos sobre el Régimen Alimenticio, pág. 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380880" y="1143000"/>
            <a:ext cx="8229600" cy="452592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Además de las instituciones de salud, cada miembro de Iglesia debe promover la obra médico misionera.</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Cuando se enseña a hacer un pan integral, a sustituir la cafeína por bebidas más saludables, cuando se da un curso sobre estrés, alimentación saludable o cómo dejar de fumar, se está  haciendo obra médica misionera de la más elevada especie. Y Dios opera de forma sobrenatural por medio de esos agentes naturales. Eso es mejor que hacer una cura milagro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533520" y="11430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	</a:t>
            </a:r>
            <a:r>
              <a:rPr b="1" lang="es-ES_tradnl" sz="2400" spc="-1" strike="noStrike">
                <a:solidFill>
                  <a:srgbClr val="000000"/>
                </a:solidFill>
                <a:latin typeface="Footlight MT Light"/>
              </a:rPr>
              <a:t>“</a:t>
            </a:r>
            <a:r>
              <a:rPr b="1" lang="es-ES_tradnl" sz="2400" spc="-1" strike="noStrike">
                <a:solidFill>
                  <a:srgbClr val="000000"/>
                </a:solidFill>
                <a:latin typeface="Footlight MT Light"/>
              </a:rPr>
              <a:t>Ha llegado el tiempo en que Satanás operará milagros para confirmar en las mentes la creencia de que él es Dios.  Todo el pueblo de Dios debe ahora permanecer firme en la plataforma de la verdad, como fue dado el mensaje del tercer ángel.  Todo cuadro agradable, todos los milagros operados, serán presentados a fin de que, si es posible, los propios elegidos serán engañados”. (Traducido de </a:t>
            </a:r>
            <a:r>
              <a:rPr b="1" i="1" lang="es-ES_tradnl" sz="2400" spc="-1" strike="noStrike">
                <a:solidFill>
                  <a:srgbClr val="000000"/>
                </a:solidFill>
                <a:latin typeface="Footlight MT Light"/>
              </a:rPr>
              <a:t>Medicina e Salvação.</a:t>
            </a:r>
            <a:r>
              <a:rPr b="1" lang="es-ES_tradnl" sz="2400" spc="-1" strike="noStrike">
                <a:solidFill>
                  <a:srgbClr val="000000"/>
                </a:solidFill>
                <a:latin typeface="Footlight MT Light"/>
              </a:rPr>
              <a:t> pág. 15.  </a:t>
            </a:r>
            <a:endParaRPr b="0" lang="en-US" sz="24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	</a:t>
            </a:r>
            <a:r>
              <a:rPr b="1" lang="es-ES_tradnl" sz="2400" spc="-1" strike="noStrike">
                <a:solidFill>
                  <a:srgbClr val="000000"/>
                </a:solidFill>
                <a:latin typeface="Footlight MT Light"/>
              </a:rPr>
              <a:t>“</a:t>
            </a:r>
            <a:r>
              <a:rPr b="1" lang="es-ES_tradnl" sz="2400" spc="-1" strike="noStrike">
                <a:solidFill>
                  <a:srgbClr val="000000"/>
                </a:solidFill>
                <a:latin typeface="Footlight MT Light"/>
              </a:rPr>
              <a:t>Todos los cuadros agradables, todos los milagros hechos, se presentarán para que, si es posible, aún los escogidos sean engañados.  La única esperanza para cualquiera es mantener con firmeza las evidencias que han confirmado la verdad en justicia </a:t>
            </a:r>
            <a:r>
              <a:rPr b="1" i="1" lang="es-ES_tradnl" sz="2000" spc="-1" strike="noStrike">
                <a:solidFill>
                  <a:srgbClr val="000000"/>
                </a:solidFill>
                <a:latin typeface="Footlight MT Light"/>
              </a:rPr>
              <a:t>(RH 9-8-19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Por eso, todo el cuidado es necesario! Entrar en el territorio del enemigo puede ser además peligroso. </a:t>
            </a:r>
            <a:endParaRPr b="0" lang="en-US" sz="2800" spc="-1" strike="noStrike">
              <a:solidFill>
                <a:srgbClr val="000000"/>
              </a:solidFill>
              <a:latin typeface="Arial"/>
            </a:endParaRPr>
          </a:p>
          <a:p>
            <a:pPr marL="3189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a:t>
            </a:r>
            <a:r>
              <a:rPr b="1" lang="es-ES_tradnl" sz="2800" spc="-1" strike="noStrike">
                <a:solidFill>
                  <a:srgbClr val="000000"/>
                </a:solidFill>
                <a:latin typeface="Footlight MT Light"/>
              </a:rPr>
              <a:t>Pero se aventuran en terreno vedado y el poderoso destructor ejerce su ascendiente sobre ellos contra su voluntad. Pero una vez que los induce a abandonar sus inteligencias a su dirección, los mantiene cautivos. Es imposible que con su propia fuerza rompan el encanto hechicero y seductor”. </a:t>
            </a:r>
            <a:r>
              <a:rPr b="1" i="1" lang="es-ES_tradnl" sz="2400" spc="-1" strike="noStrike">
                <a:solidFill>
                  <a:srgbClr val="000000"/>
                </a:solidFill>
                <a:latin typeface="Footlight MT Light"/>
              </a:rPr>
              <a:t>(Seguridad y paz en el conflicto de los siglos, pág. 6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ntonces, cómo saber si la cura viene de Dio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No estamos autorizados por Dios para emitir un juicio al respecto. Esta convicción debe ser íntima y fruto de la luz de Espíritu Santo en la vida del cristia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Curas milagrosas surgirán en los últimos días. De hecho, esta es una señal de la 2ª Venida de Cristo. Como cristianos necesitamos comprender y observar las señales. Milagros serán realizados por maestros religiosos (falsos cristos) y por profetas (falsos) – lobos disfrazados de ovejas o hasta disfrazados de pas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Milagros verdaderos volverán  a ocurrir:</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Cuando venga la plenitud del poder del Espíritu Santo sobre los fieles guardadores de los mandamientos de Dios, nuevamente será concedido a su pueblo un poder extraordinario</a:t>
            </a:r>
            <a:r>
              <a:rPr b="0" lang="es-ES_tradnl" sz="3200" spc="-1" strike="noStrike">
                <a:solidFill>
                  <a:srgbClr val="000000"/>
                </a:solidFill>
                <a:latin typeface="Footlight MT Light"/>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t>
            </a:r>
            <a:r>
              <a:rPr b="1" lang="es-ES_tradnl" sz="3200" spc="-1" strike="noStrike">
                <a:solidFill>
                  <a:srgbClr val="000000"/>
                </a:solidFill>
                <a:latin typeface="Footlight MT Light"/>
              </a:rPr>
              <a:t>La gran obra de evangelización no terminará con menor manifestación del poder divino que la que señaló el principio de ella. Las profecías que se cumplieron en tiempo de la efusión de la lluvia temprana, al principio del ministerio evangélico, deben volverse a cumplir en tiempo de la lluvia tardía”. </a:t>
            </a:r>
            <a:r>
              <a:rPr b="1" i="1" lang="es-ES_tradnl" sz="2800" spc="-1" strike="noStrike">
                <a:solidFill>
                  <a:srgbClr val="000000"/>
                </a:solidFill>
                <a:latin typeface="Footlight MT Light"/>
              </a:rPr>
              <a:t>(Recibiréis Poder, pág. 2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a:t>
            </a:r>
            <a:r>
              <a:rPr b="1" lang="es-ES_tradnl" sz="2800" spc="-1" strike="noStrike">
                <a:solidFill>
                  <a:srgbClr val="000000"/>
                </a:solidFill>
                <a:latin typeface="Footlight MT Light"/>
              </a:rPr>
              <a:t>Vendrán siervos de Dios con semblantes iluminados y resplandecientes de santa consagración, y se apresurarán de lugar en lugar para proclamar el mensaje celestial.  Miles de voces predicarán el mensaje por toda la tierra.  Se realizarán milagros, los enfermos sanarán y señales y prodigios seguirán a los creyentes.  Satanás también efectuará sus falsos milagros al punto de hacer caer fuego del cielo a la vista de los hombres”. </a:t>
            </a:r>
            <a:r>
              <a:rPr b="1" i="1" lang="es-ES_tradnl" sz="2400" spc="-1" strike="noStrike">
                <a:solidFill>
                  <a:srgbClr val="000000"/>
                </a:solidFill>
                <a:latin typeface="Footlight MT Light"/>
              </a:rPr>
              <a:t>(Apoc. 13:13) (El Conflicto de los Siglos, pág. 6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p:nvPr>
        </p:nvSpPr>
        <p:spPr>
          <a:xfrm>
            <a:off x="457200" y="1981080"/>
            <a:ext cx="8229600" cy="4068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l objetivo de ellos es engañar, y el objeto principal es el pueblo escogido por Dios. Cristianos caerán en la trampa de los milagros, no porque no conocieron, sino porque no amaron la ver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Cuál es la diferencia entre saber y amar la verdad? Cuando se ama, se quiere saber más, estar más tiempos juntos, vivir juntos, agradar al ser amado, contar a todo el mundo esta verdad. Pero, “y por haberse multiplicado la maldad, el amor de muchos se enfriará”.</a:t>
            </a:r>
            <a:r>
              <a:rPr b="1" i="1" lang="es-ES_tradnl" sz="3200" spc="-1" strike="noStrike">
                <a:solidFill>
                  <a:srgbClr val="000000"/>
                </a:solidFill>
                <a:latin typeface="Footlight MT Light"/>
              </a:rPr>
              <a:t> </a:t>
            </a:r>
            <a:r>
              <a:rPr b="1" i="1" lang="es-ES_tradnl" sz="2800" spc="-1" strike="noStrike">
                <a:solidFill>
                  <a:srgbClr val="000000"/>
                </a:solidFill>
                <a:latin typeface="Footlight MT Light"/>
              </a:rPr>
              <a:t>(Mateo 24: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a profecía bíblica revela que esta introducción de herejías ocurriría nuevamente, así como ocurrió antes de la 1ª venida de Cristo. “En medio del pueblo, surgieron falsos profetas, así también habrá entre vosotros falsos maestros, quienes introducirán, herejías disimuladamente,...” </a:t>
            </a:r>
            <a:r>
              <a:rPr b="1" i="1" lang="es-ES_tradnl" sz="2800" spc="-1" strike="noStrike">
                <a:solidFill>
                  <a:srgbClr val="000000"/>
                </a:solidFill>
                <a:latin typeface="Footlight MT Light"/>
              </a:rPr>
              <a:t>(2 Ped.  2: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pocalipsis revela que poderes religiosos importantes, protagonistas de una gran unión o ecumenismo, recibirán un espíritu operador de milagros. ¡Pero, atención! Éste no será el Espíritu de Dios, sino, de demonios. </a:t>
            </a:r>
            <a:r>
              <a:rPr b="1" i="1" lang="es-ES_tradnl" sz="2400" spc="-1" strike="noStrike">
                <a:solidFill>
                  <a:srgbClr val="000000"/>
                </a:solidFill>
                <a:latin typeface="Footlight MT Light"/>
              </a:rPr>
              <a:t>(Apoc. 16: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t>
            </a:r>
            <a:r>
              <a:rPr b="1" lang="es-ES_tradnl" sz="3200" spc="-1" strike="noStrike">
                <a:solidFill>
                  <a:srgbClr val="000000"/>
                </a:solidFill>
                <a:latin typeface="Footlight MT Light"/>
              </a:rPr>
              <a:t>Cada alma inevitablemente será probada, cada fe y doctrina necesariamente tendrán que ser probadas por la ley y el testimonio… pues penetrarán entre nosotros errores y engaños, y se multiplicarán a medida que nos aproximemos al fin”. </a:t>
            </a:r>
            <a:r>
              <a:rPr b="1" i="1" lang="es-ES_tradnl" sz="2800" spc="-1" strike="noStrike">
                <a:solidFill>
                  <a:srgbClr val="000000"/>
                </a:solidFill>
                <a:latin typeface="Footlight MT Light"/>
              </a:rPr>
              <a:t>(Comentario Bíblico Adventista, t 7, pág. 39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n la espera por un milagro de Dios, muchas personas no buscan ayuda de un especialista.  Quieren la bendición de Dios, pero no quieren someterse a su voluntad. Quieren ver magia. Eso no es fe, es presun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Footlight MT Light"/>
              </a:rPr>
              <a:t>Cristo también sufrió esa tentación: </a:t>
            </a:r>
            <a:r>
              <a:rPr b="1" i="1" lang="es-ES_tradnl" sz="4000" spc="-1" strike="noStrike">
                <a:solidFill>
                  <a:srgbClr val="000000"/>
                </a:solidFill>
                <a:latin typeface="Footlight MT Light"/>
              </a:rPr>
              <a:t>Transformar las piedras en panes para satisfacer sus necesidad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 Gazioli</cp:lastModifiedBy>
  <dcterms:modified xsi:type="dcterms:W3CDTF">2007-10-29T01:15:05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