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B85-DD5A-4105-9FA1-CA99D963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3C6F-41C6-4D75-9F31-FC8A6299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825-7674-463D-AA5B-FAE3EAAB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1964-697C-4CF5-BA0C-A26B6A5D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DAB1-7D89-4674-9CBC-FC31A7C9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53D7-8C0D-4690-9EA6-DF296C73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1C7-D98A-4BE3-95D6-DD62D520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715F-E438-48FB-9297-E536D534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3107-FD55-48FD-8D2F-5322D8A1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584-93CB-480A-A365-E1B8CC9D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0C9-4D37-4C0E-9B4A-526BC5B4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53DA-16AB-45C0-B4D5-02721EDD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EE22-469F-4B2E-BDCA-298F9CD25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El sentimiento de pecaminosidad ha envenenado las fuentes de la vida y de la verdadera felicidad”. </a:t>
            </a:r>
            <a:r>
              <a:rPr b="1" i="1" lang="es-ES_tradnl" sz="2400" spc="-1" strike="noStrike">
                <a:solidFill>
                  <a:srgbClr val="000000"/>
                </a:solidFill>
                <a:latin typeface="Footlight MT Light"/>
              </a:rPr>
              <a:t>(A fin de Conocerle, pág. 243).</a:t>
            </a: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A veces el remordimiento por el pecado mina la constitución y desequilibra la mente”. </a:t>
            </a:r>
            <a:r>
              <a:rPr b="1" i="1" lang="es-ES_tradnl" sz="2400" spc="-1" strike="noStrike">
                <a:solidFill>
                  <a:srgbClr val="000000"/>
                </a:solidFill>
                <a:latin typeface="Footlight MT Light"/>
              </a:rPr>
              <a:t>(Consejos sobre la Salud, pág. 32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Efectos de la lealtad y honestidad para la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La bendición de la longevidad: “El valor, la esperanza, la fe, la simpatía y el amor fomentan la salud y alargan la vida.”. </a:t>
            </a:r>
            <a:r>
              <a:rPr b="0" i="1" lang="es-ES_tradnl" sz="2400" spc="-1" strike="noStrike">
                <a:solidFill>
                  <a:srgbClr val="000000"/>
                </a:solidFill>
                <a:latin typeface="Footlight MT Light"/>
              </a:rPr>
              <a:t>(Consejos sobre la salud, pág. 34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Desarrolla el espíritu de bondad y liber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El placer de hacer el bien producen cura y salud. Quien es leal, honesto y liberal en los asuntos espirituales, manifestará también esas virtudes al lidiar con el prójimo necesit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Hacer el bien promueve la  sal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El placer de hacer el bien a otros imparte calor a los sentimientos, el que se propaga a los nervios, activa la circulación de la sangre e induce salud mental y física”. </a:t>
            </a:r>
            <a:r>
              <a:rPr b="1" i="1" lang="es-ES_tradnl" sz="2800" spc="-1" strike="noStrike">
                <a:solidFill>
                  <a:srgbClr val="000000"/>
                </a:solidFill>
                <a:latin typeface="Footlight MT Light"/>
              </a:rPr>
              <a:t>(Consejos sobre mayordomía cristiana, pág. 35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Por eso, en cualquier situación compensa servir al Señ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Footlight MT Light"/>
              </a:rPr>
              <a:t> “</a:t>
            </a:r>
            <a:r>
              <a:rPr b="1" i="1" lang="es-ES_tradnl" sz="3200" spc="-1" strike="noStrike">
                <a:solidFill>
                  <a:srgbClr val="000000"/>
                </a:solidFill>
                <a:latin typeface="Footlight MT Light"/>
              </a:rPr>
              <a:t>La bendición del Señor es la que enriquece, y no añade tristeza con ella”</a:t>
            </a: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(Prov.  10:22).</a:t>
            </a: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Footlight MT Light"/>
              </a:rPr>
              <a:t>Para tener salud y bienestar, es importante practicar la lealtad y la integridad hacia Dios.</a:t>
            </a: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Conozca 8 razones para ser leal e ínteg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Dios es mi Pad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Él tiene para darme todo lo que necesi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Él se interesa diariamente en mí y me sustenta con todo lo que necesi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Independiente de mi gratitud hacia Él, actúa en mi vi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Es un Padre especial que primero me bendice y después me pide que le devuelva, en forma de adoración, una pequeña parte de esa dádiv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Me provee de empleo y otros medios para el sostén de mi diario vivi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Me da salud y disposición para ganarme el pa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Me da conocimiento, sabiduría y prosper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Probamos nuestra lealtad e integridad a Dios siendo fieles en la devolución de los diezmos y ofren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¿Robará el hombre a Dios? Pues vosotros me habéis robado.  Y dijisteis: ¿En qué te hemos robado? En vuestros diezmos y ofrendas. Malditos sois con maldición, porque vosotros, la nación toda, me habéis robado.  Traed todos los diezmos al alfolí y halla alimento en mi casa; y probadme ahora en esto, dice Jehová de los ejércitos, si no os abriré las ventanas de los cielos, y derramaré sobre vosotros bendición hasta que sobreabunde”.  </a:t>
            </a:r>
            <a:r>
              <a:rPr b="1" i="1" lang="es-ES_tradnl" sz="2000" spc="-1" strike="noStrike">
                <a:solidFill>
                  <a:srgbClr val="000000"/>
                </a:solidFill>
                <a:latin typeface="Footlight MT Light"/>
              </a:rPr>
              <a:t>(Mal. 3:8-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Los diezmos y las ofrendas están en un mismo nivel para Dios. Los dos deben ser cuidadosamente considera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Diezmo</a:t>
            </a: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: Propiedad del Padre. Si no lo devolvemos, equivale a renegar a Dios como Cre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Ofrendas</a:t>
            </a:r>
            <a:r>
              <a:rPr b="1" i="1" lang="es-ES_tradnl" sz="2800" spc="-1" strike="noStrike">
                <a:solidFill>
                  <a:srgbClr val="000000"/>
                </a:solidFill>
                <a:latin typeface="Footlight MT Light"/>
              </a:rPr>
              <a:t>: Ignorar la ofrenda como elemento de adoración, sería rechazar abiertamente a Cristo como Salvador y como el “Cordero de Dios, que quita el pecado del mundo” </a:t>
            </a:r>
            <a:r>
              <a:rPr b="1" lang="es-ES_tradnl" sz="2000" spc="-1" strike="noStrike">
                <a:solidFill>
                  <a:srgbClr val="000000"/>
                </a:solidFill>
                <a:latin typeface="Footlight MT Light"/>
              </a:rPr>
              <a:t>(Job. 1:2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¿Cuáles son los resultados de la deslealtad y la deshonestidad en la devolución de los diezmos y  las ofrenda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Desarrolla el espíritu de codi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Fortalece el egoí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228600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el espíritu de la codicia lo que induce 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ortalece el egoísm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os hombres a conservar para la complacencia propia los medios que por derecho pertenecen a Dios, y este espíritu es tan aborrecible”. (Los Hechos de los Apóstoles, pág. 2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Es un crimen contra 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Defraudar a Dios es el delito más grande que un hombre pueda cometer; y sin embargo este pecado está muy arraigado y extendido.-RH, oct. 13, 1896.”. </a:t>
            </a:r>
            <a:r>
              <a:rPr b="1" i="1" lang="es-ES_tradnl" sz="2800" spc="-1" strike="noStrike">
                <a:solidFill>
                  <a:srgbClr val="000000"/>
                </a:solidFill>
                <a:latin typeface="Footlight MT Light"/>
              </a:rPr>
              <a:t>(Consejos sobre Mayordomía Cristiana, pág. 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Efectos de la deslealtad y deshonestidad con la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La conciencia pesada y la falta de paz, quebrantan las fuerzas vitales de la v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Las penas, la ansiedad, el descontento, remordimiento, sentimiento de culpabilidad y desconfianza, menoscaban las fuerzas vitales y llevan al decaimiento y a la muerte”. </a:t>
            </a:r>
            <a:r>
              <a:rPr b="0" i="1" lang="es-ES_tradnl" sz="2400" spc="-1" strike="noStrike">
                <a:solidFill>
                  <a:srgbClr val="000000"/>
                </a:solidFill>
                <a:latin typeface="Footlight MT Light"/>
              </a:rPr>
              <a:t>(Consejos sobre Salud, pág. 34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lmara Rosa</cp:lastModifiedBy>
  <dcterms:modified xsi:type="dcterms:W3CDTF">2007-10-30T17:14:5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