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8C2-E120-485F-8AC4-E73FF22C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1D5-8D44-43E3-A7C9-EA86A073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FFA-0662-4269-907A-66409FAF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402-0E94-4E5D-A31E-2FF0F942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1C0-F6A8-4F41-80BF-6BC291D4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027-A0E3-4942-A06D-A4D9572B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DF1-67B7-43CA-8E30-291946D1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982-BF47-40E3-8B27-4E371D07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077-248B-4889-A0EC-4AD04E4E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A85-160B-40C6-93AE-3211FDD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E03-4DA3-443B-A285-E5D297E4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B3E-1DF2-4559-9D55-4AF380FC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2111-40CC-4EB7-A76D-2301F51D6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ootlight MT Light"/>
              </a:rPr>
              <a:t>Cuando tenemos un óptimo condicionamiento, disfrutamos la vida más plenamen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Nuestro papel en la conservación de la salud 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Dejad de transgredir las leyes de vuestro ser; dejad de gratificar un apetito depravado; comed alimentos sencillos, vestíos en forma saludable, lo cual exigirá modesta sencillez; trabajad en forma sana, y no estaréis enfermos”.(Consejos sobre el Régimen Alimenticio, pág. 1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ootlight MT Light"/>
              </a:rPr>
              <a:t>¿Qué es estilo de v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Es la suma de los hábitos diarios de una persona, que puede resultar en salud, enfermedad o en c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Footlight MT Light"/>
              </a:rPr>
              <a:t>Un estilo de vida abarca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Footlight MT Light"/>
              </a:rPr>
              <a:t>Hábitos de higiene y limpiez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Footlight MT Light"/>
              </a:rPr>
              <a:t>Hábitos de salud ambient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Footlight MT Light"/>
              </a:rPr>
              <a:t>Estilo de tratamiento y cura de la enfermeda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Footlight MT Light"/>
              </a:rPr>
              <a:t>Hábitos de salud personal, como por ejemplo: alimentación, actividad física, recreación, postura, respiración, uso del agua, temperancia, descanso, estrategias para enfrentar el estrés y confianza en el poder divi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Footlight MT Light"/>
              </a:rPr>
              <a:t>Principales hábitos en el área de la salud preventiv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00"/>
                </a:solidFill>
                <a:latin typeface="Footlight MT Light"/>
              </a:rPr>
              <a:t>Para obtener una mejor salud física y mental, son importantes algunos hábit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00"/>
                </a:solidFill>
                <a:latin typeface="Footlight MT Light"/>
              </a:rPr>
              <a:t>Vida activa traducida en ejercicio físico, pero con actividades equilibr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00"/>
                </a:solidFill>
                <a:latin typeface="Footlight MT Light"/>
              </a:rPr>
              <a:t>Consumo diario de frutas y verdur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00"/>
                </a:solidFill>
                <a:latin typeface="Footlight MT Light"/>
              </a:rPr>
              <a:t>Preparación y presentaciones simples pero atractivas de los aliment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00"/>
                </a:solidFill>
                <a:latin typeface="Footlight MT Light"/>
              </a:rPr>
              <a:t>Un régimen de alimentación saludable y variado (cereales, frutas, legumbres y oleaginos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00"/>
                </a:solidFill>
                <a:latin typeface="Footlight MT Light"/>
              </a:rPr>
              <a:t>Equilibrio de la salud mental ( pensamientos, sentimientos y emociones y/o el impacto en el organismo físico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Footlight MT Light"/>
              </a:rPr>
              <a:t>Salud cu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La salud es la recompensa a la obediencia de las leyes naturales y espirituales de D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La enfermedad es el resultado de la desobediencia a es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Footlight MT Light"/>
              </a:rPr>
              <a:t>Entonces, ¿qué hacer cuando la persona desobedeció las leyes y está enfer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Footlight MT Light"/>
              </a:rPr>
              <a:t>Es necesario asumir un cuidado activo mediante el uso de bastante agua, exposición a la luz del sol, respiración correcta, practicar ejercicio físico, descanso, abstinencia, régimen alimenticio adecuado y confianza en el poder divi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Footlight MT Light"/>
              </a:rPr>
              <a:t>El valor de la medici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Cristo es el jefe de la profesión médica.  El médico apenas colabora con Cristo, sustentador de todos los sistemas inmunológicos y reparadores de nuestro cuer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ootlight MT Light"/>
              </a:rPr>
              <a:t>¿Cómo tener vida abundan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El estilo de vida de una persona  influye directamente en el vigor físico y 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Tanto el vigor mental como el espiritual dependen en gran parte de la fuerza y la actividad físicas”. (Conducción del Niño, pág. 33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Para tener vida en abundancia y ser como un todo- bio- físico -espiritual completo, necesita  imitar la posición de las Sagradas Escritu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Gazioli</cp:lastModifiedBy>
  <dcterms:modified xsi:type="dcterms:W3CDTF">2007-10-28T01:20:5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