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FF4-3EB8-4DF7-ABD0-909CA30E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15C-B1DB-4300-A7CE-55C1CB5D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821-1DED-4F47-9B14-BC5B041C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0E3-F92E-4E90-B0D5-8EA90F34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694-164A-49E8-BB44-A60C40C4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927-EA18-4172-BE1B-4E817504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EF6-F647-4F5F-BAEE-CD5B2641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F20-ED28-465F-A7B6-A9C8BD4C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EE8-3B7D-4101-9CB1-E6CAA2F7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B66-3222-41E1-924B-ABA8B774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00A-DE1A-4A2C-B7E0-A311697D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48E-4114-4166-A065-256DAC89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D5DB-921B-4259-B0F4-5B85083A3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Footlight MT Light"/>
              </a:rPr>
              <a:t>4. Ejercicio fís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Investigaciones comprueban la importancia de los ejercicios físicos para la salud.  El ejercicio es tan importante como el al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El ejercicio aviva y regula la circulación de la sangre; pero en la ociosidad la sangre no circula con libertad, ni se efectúa su renovación, tan necesaria para la vida y la salud.  La piel también se vuelve inactiva.  Las impurezas no son eliminadas como podrían serlo si un ejercicio activo estimulara la circulación, mantuviera la piel en condición de salud, y llenara los pulmones con aire puro y fresco”. </a:t>
            </a:r>
            <a:r>
              <a:rPr b="1" i="1" lang="es-ES_tradnl" sz="2200" spc="-1" strike="noStrike">
                <a:solidFill>
                  <a:srgbClr val="000000"/>
                </a:solidFill>
                <a:latin typeface="Footlight MT Light"/>
              </a:rPr>
              <a:t>(Ministerio de Curación, pág. 18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Siempre que quiera comenzar una actividad física, consulte antes un profesional de la salud.  Después de eso, comience por el ejercicio que le recomiende; aquel que sea el mejor y se adapte a su realidad financiera, social y geográf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Caminar es uno de los ejercicios más completos y gratui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Footlight MT Light"/>
              </a:rPr>
              <a:t>5. Repo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El exceso de trabajo y la falta de reposo causan una serie de dolencias.  Felizmente, los cristianos tenemos la bendición del descanso semanal: el sábado.  Para un completo reposo, el ideal es dormir antes de media no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También es importante evitar el uso de alimentos antes de dormir.  El proceso digestivo durante el reposo no es adecuado e interfiere en la calidad del su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Footlight MT Light"/>
              </a:rPr>
              <a:t>6. 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Régimen de alimentación conveniente: frutas, verduras, cereales y nu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Una nutrición equilibrada y consistente, es un verdadero combustible para el cue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Investigaciones muestran que solo una persona de cada diez consume regularmente frutas y vegetales, suficientes para satisfacer la cantidad diaria de vitaminas recomendadas para el organ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Una idea importante, es explorar una mayor variedad de alimentos en nuestro diario vivir, especialmente entre frutas, verduras y vegetales, además de optar por la variedad de col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Footlight MT Light"/>
              </a:rPr>
              <a:t>”</a:t>
            </a:r>
            <a:r>
              <a:rPr b="1" i="1" lang="es-ES_tradnl" sz="2400" spc="-1" strike="noStrike">
                <a:solidFill>
                  <a:srgbClr val="000000"/>
                </a:solidFill>
                <a:latin typeface="Footlight MT Light"/>
              </a:rPr>
              <a:t>Si, pues, coméis o bebéis, o hacéis otra cosa, hacedlo todo para la gloria de Dios”. (I Cor. 10:3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Footlight MT Light"/>
              </a:rPr>
              <a:t>7. Abstinencia  (temperancia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Hasta lo que es bueno, debe ser usado con moderación.  Muchas dolencias son causadas por  la intemperancia en el c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El secreto es pensar menos en los alimentos tempo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 “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Debemos estar constantemente meditando en la palabra, comiéndola, digiriéndola, y asimilándola al practicarla, de manera que sea llevada a la corriente de la vida.  El que se alimenta de Cristo diariamente enseñará a otros por su ejemplo a pensar menos en lo que come y a sentir mucho mayor ansiedad por el alimento que da a su alma”. </a:t>
            </a:r>
            <a:r>
              <a:rPr b="1" i="1" lang="es-ES_tradnl" sz="2400" spc="-1" strike="noStrike">
                <a:solidFill>
                  <a:srgbClr val="000000"/>
                </a:solidFill>
                <a:latin typeface="Footlight MT Light"/>
              </a:rPr>
              <a:t>(Consejos sobre el Régimen Alimenticio, pág. 10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Footlight MT Light"/>
              </a:rPr>
              <a:t>8. Confianza en el poder divin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Es el principal remedio.  El poder curativo viene del Señ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i="1" lang="es-ES_tradnl" sz="2800" spc="-1" strike="noStrike">
                <a:solidFill>
                  <a:srgbClr val="000000"/>
                </a:solidFill>
                <a:latin typeface="Footlight MT Light"/>
              </a:rPr>
              <a:t>No me seas tu por espanto, pues mi refugio eres tú en el día malo” (Jer.17: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Para tener más salud es necesario tener amor, esperanza y alegría en el Señor.  Es  imperioso tener la fe necesaria en Dios para que tengamos sal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Footlight MT Light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Footlight MT Light"/>
              </a:rPr>
              <a:t>Cuando usamos cuidadosamente los verdaderos remedios de la naturaleza, raramente tenemos necesidad de usar los medicamentos tradicionales.  90% de todas las enfermedades, se originan en la mente y lo que afecta el cuerpo, afecta la mente.  La religión de Cristo es uno de sus más eficaces remedi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La búsqueda de la salud debe ser diaria así como se busca a Di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Santidad y vida saludable deben andar  tomadas de la 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Un cristiano consagrado vive diariamente los principios de salud instituidos por el Cre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291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Footlight MT Light"/>
              </a:rPr>
              <a:t>Entonces,  ¿cómo puedo tener salud en abundanc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Primer paso:</a:t>
            </a:r>
            <a:r>
              <a:rPr b="1" lang="es-ES_tradnl" sz="30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Comience el día en la presencia de Dios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647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La palabra de Dios en las primeras horas del día, produce salud.  Cuanto más nutridos estemos de la Palabra Viva, más salud tenemos y mayor tendencia  para prevenir y restaurar  las enferme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El amor que Cristo infunde en todo nuestro ser es un poder vivificante.  Da salud a cada una de las partes vitales: el cerebro, el corazón y los nervios.  Por su medio las energías más potentes de nuestro ser despiertan y entran en actividad.  Libra al alma de culpa y tristeza, de la ansiedad y congoja que agotan las fuerzas de la vida.  Con él vienen la serenidad y la calma.  Implanta en el alma un gozo que nada en la tierra puede destruir: el gozo que hay en el Espíritu Santo, un gozo que da salud y vida.  </a:t>
            </a:r>
            <a:r>
              <a:rPr b="1" i="1" lang="es-ES_tradnl" sz="2000" spc="-1" strike="noStrike">
                <a:solidFill>
                  <a:srgbClr val="000000"/>
                </a:solidFill>
                <a:latin typeface="Footlight MT Light"/>
              </a:rPr>
              <a:t>(Ministerio de Curación, pág. 7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Footlight MT Light"/>
              </a:rPr>
              <a:t>Segundo paso: U</a:t>
            </a:r>
            <a:r>
              <a:rPr b="1" lang="es-ES_tradnl" sz="3200" spc="-1" strike="noStrike">
                <a:solidFill>
                  <a:srgbClr val="000000"/>
                </a:solidFill>
                <a:latin typeface="Footlight MT Light"/>
              </a:rPr>
              <a:t>se los verdaderos remedios</a:t>
            </a:r>
            <a:r>
              <a:rPr b="1" lang="es-ES_tradnl" sz="35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¿Usted sabía que Dios tiene un  médico que no cobra  la consulta?  Es la bondadosa criatura llamada  NATURALEZA.  En ella podemos encontrar ocho remedios para curar a las personas y prevenir sus dolencias y sufr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Footlight MT Light"/>
              </a:rPr>
              <a:t>1. Aire pur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Footlight MT Light"/>
              </a:rPr>
              <a:t>Remedio indispensable para la existencia humana.  Es un don gratuito de Dios a los hombres y muje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s-ES_tradnl" sz="2500" spc="-1" strike="noStrike">
                <a:solidFill>
                  <a:srgbClr val="000000"/>
                </a:solidFill>
                <a:latin typeface="Footlight MT Light"/>
              </a:rPr>
              <a:t>La influencia del aire puro y fresco hace que la sangre circule en forma saludable por el organismo.  Refresca el cuerpo, y tiende a fortalecerlo y a hacerlo saludable, mientras que al mismo tiempo su influencia se siente en forma definida en la mente, pues imparte cierto grado de compostura y serenidad.  Excita el apetito, y hace que la digestión sea más perfecta, induciendo un sueño sano y dulce.” </a:t>
            </a:r>
            <a:r>
              <a:rPr b="1" i="1" lang="es-ES_tradnl" sz="2500" spc="-1" strike="noStrike">
                <a:solidFill>
                  <a:srgbClr val="000000"/>
                </a:solidFill>
                <a:latin typeface="Footlight MT Light"/>
              </a:rPr>
              <a:t>(Consejos sobre el Régimen Alimenticio, pág. 123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Footlight MT Light"/>
              </a:rPr>
              <a:t>2. Luz Sol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En la construcción de casas es de gran importancia asegurar una completa ventilación y mucho sol. Haya circulación de aire y mucha luz en cada pieza de la casa.  Los dormitorios deben estar dispuestos de tal modo que el aire circule por ellos día y noch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otlight MT Light"/>
              </a:rPr>
              <a:t>Ningún cuarto es adecuado para servir como dormitorio a menos que pueda abrirse de par en par cada día para dar acceso al aire y a la luz del sol.  En muchos países los dormitorios necesitan calefacción, de modo que puedan quedar calientes y secos en tiempo frío y húmedo”.  </a:t>
            </a:r>
            <a:r>
              <a:rPr b="1" i="1" lang="es-ES_tradnl" sz="2000" spc="-1" strike="noStrike">
                <a:solidFill>
                  <a:srgbClr val="000000"/>
                </a:solidFill>
                <a:latin typeface="Footlight MT Light"/>
              </a:rPr>
              <a:t>(El Hogar Cristiano, pág.13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Footlight MT Light"/>
              </a:rPr>
              <a:t>3. Uso del agu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Footlight MT Light"/>
              </a:rPr>
              <a:t>El agua pura es una de las más grandes bendiciones que Dios nos 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Footlight MT Light"/>
              </a:rPr>
              <a:t>Son muchos los beneficios del agu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Regula la circulación de la sang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Calma los nerv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Respi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Di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Saliva y lágr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Control de la 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Flex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Footlight MT Light"/>
              </a:rPr>
              <a:t>Otras necesidades del organis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Footlight MT Light"/>
              </a:rPr>
              <a:t>Recuerde:</a:t>
            </a: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 La sed es una señal de que nuestra hidratación está baja. Por eso, use ese remedio en abunda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Si quiere permanecer vivo - tome 5 vasos al d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Para sentirse muy bien - tome 8 v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ootlight MT Light"/>
              </a:rPr>
              <a:t>Y para rejuvenecer diariamente - tome 10 v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55:58Z</dcterms:created>
  <dc:creator>monica.alana</dc:creator>
  <dc:description/>
  <dc:language>en-US</dc:language>
  <cp:lastModifiedBy>Nelida Ruiz</cp:lastModifiedBy>
  <dcterms:modified xsi:type="dcterms:W3CDTF">2007-10-30T00:25:52Z</dcterms:modified>
  <cp:revision>49</cp:revision>
  <dc:subject/>
  <dc:title>Slide 1</dc:title>
</cp:coreProperties>
</file>