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01EB-80B3-42C4-98DC-9D30103643C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2723-4613-48E0-891D-777432EDD6F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BF1A-EC04-4DCD-B08C-7B25A9E9513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3E5A-815C-4CFE-A4A6-309C807743C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9A5E-6AA8-4C17-9F6B-A301CBA7377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4B67-1881-4F91-B62D-BC8C4AD49FB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904A-C149-4208-9482-8912CBC9F98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1D4-8D1A-49A7-A849-2C12EA213E4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8329-A3D2-4E49-BF22-2100503E1F4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48F5-A605-4671-AB75-C2476444832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7536-869C-42F8-A014-2EF8F5258C0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63AE-F322-4C19-BB15-52851AED2B2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EB13A-8A92-4263-96D1-8511F1755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0C6E-4C1B-4D98-9677-414F133D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7D949-A10D-4053-93CC-7307C916E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4A145-90A5-47C4-BAAA-90847A9A6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5741-46B3-421D-9418-0C7F0B55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8787-13A2-42A7-B59A-F57C0027B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BAE1-9966-4AA4-AD56-28F68ECD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DA7B-1349-48E1-B66B-7BC0F55C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1DA8-FEC6-4419-A820-AFDAC924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39EB-98C6-4259-8EDE-3EFEF152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2985-239C-4FF2-92D0-1054A619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A5CF-BD30-4B56-BAD8-5F5B21D75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2E2E-E52E-4BA3-B6FB-EBDEFBB2DFA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EMINARIO22ESP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SEMINARIO22ESP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iertamente surgirán dificultades. Nuestra misión es llevar la reforma de salud y, en consecuencia, proclamar el mensaje angélico.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omo cristianos debemos atender la obra médico-misionera. Esta obra debe ser nuestro ministerio.</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SEMINARIO22ESP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457200" y="1066320"/>
            <a:ext cx="8229600" cy="483084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Recuerde que: </a:t>
            </a:r>
            <a:r>
              <a:rPr b="1" lang="es-ES_tradnl" sz="2400" spc="-1" strike="noStrike" u="sng">
                <a:solidFill>
                  <a:srgbClr val="000000"/>
                </a:solidFill>
                <a:uFillTx/>
                <a:latin typeface="Footlight MT Light"/>
              </a:rPr>
              <a:t>la reforma de salud y la espiritualidad deben andar tomados de las manos</a:t>
            </a:r>
            <a:r>
              <a:rPr b="1" lang="es-ES_tradnl" sz="2400" spc="-1" strike="noStrike">
                <a:solidFill>
                  <a:srgbClr val="000000"/>
                </a:solidFill>
                <a:latin typeface="Footlight MT Light"/>
              </a:rPr>
              <a:t>. </a:t>
            </a:r>
            <a:endParaRPr b="0" lang="en-US" sz="2400" spc="-1" strike="noStrike">
              <a:solidFill>
                <a:srgbClr val="000000"/>
              </a:solidFill>
              <a:latin typeface="Arial"/>
            </a:endParaRPr>
          </a:p>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Deben producirse un reavivamiento y una reforma bajo el ministerio del Espíritu Santo.  El reavivamiento y la reforma son dos cosas diferentes.  El reavivamiento significa una renovación de la vida espiritual, un avivamiento de las facultades de la mente y el corazón, una resurrección de la muerte espiritual.  La reforma significa una reorganización, un cambio en ideas y teorías, en hábitos y prácticas.  La reforma no producirá el buen fruto de justicia a menos que esté conectada con el reavivamiento del Espíritu.  El reavivamiento y la reforma han de hacer su obra designada, y al hacerlo, deben fusionarse.-</a:t>
            </a:r>
            <a:r>
              <a:rPr b="1" i="1" lang="es-ES_tradnl" sz="1800" spc="-1" strike="noStrike">
                <a:solidFill>
                  <a:srgbClr val="000000"/>
                </a:solidFill>
                <a:latin typeface="Footlight MT Light"/>
              </a:rPr>
              <a:t>RH Febrero 25, 1902”(Eventos de los últimos días, pág.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EMINARIO22ESP2"/>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457200" y="190512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reforma de la salud es un tema que tiene íntima relación con el tercer mensaje angélico. El objetivo de los tres mensajes, es disponer un pueblo para la venida de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SEMINARIO22ESP2"/>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371600"/>
            <a:ext cx="8229600" cy="452592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Una gran obra de reforma debía realizarse para preparar a un pueblo que pudiese subsistir en el día de Dios.  El Señor vio que muchos de los que profesaban pertenecer a su pueblo no edificaban para la eternidad, y en su misericordia iba a enviar una amonestación para despertarlos de su estupor e inducirlos a prepararse para la venida de su Señor”. </a:t>
            </a:r>
            <a:r>
              <a:rPr b="1" i="1" lang="es-ES_tradnl" sz="2400" spc="-1" strike="noStrike">
                <a:solidFill>
                  <a:srgbClr val="000000"/>
                </a:solidFill>
                <a:latin typeface="Footlight MT Light"/>
              </a:rPr>
              <a:t>(Maranattha: El Señor viene, pág. 1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SEMINARIO22ESP2"/>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Footlight MT Light"/>
              </a:rPr>
              <a:t>El primer mensaje angélico habla sobre adoración total</a:t>
            </a:r>
            <a:endParaRPr b="0" lang="en-US" sz="32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Temáis” – aspecto mental (Prov. 1:7) – Es tiempo de limpiar la mente.</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Adoréis” – aspecto espiritual – Adoración al Creador, en vez de a la criatura.</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Le deis gloria” – aspecto físico (1 Cor. 6:19 y 20;  7:31) – Glorificar en el cuerpo.</a:t>
            </a: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SEMINARIO22ESP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1295280"/>
            <a:ext cx="8229600" cy="452592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Tercer Mensaje Angélico tiene su enfoque en la propiedad divina </a:t>
            </a:r>
            <a:endParaRPr b="0" lang="en-US" sz="3200" spc="-1" strike="noStrike">
              <a:solidFill>
                <a:srgbClr val="000000"/>
              </a:solidFill>
              <a:latin typeface="Arial"/>
            </a:endParaRPr>
          </a:p>
          <a:p>
            <a:pPr marL="335880" indent="-3358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No adorar la imagen de la bestia, ni aceptar su señal.</a:t>
            </a:r>
            <a:endParaRPr b="0" lang="en-US" sz="2600" spc="-1" strike="noStrike">
              <a:solidFill>
                <a:srgbClr val="000000"/>
              </a:solidFill>
              <a:latin typeface="Arial"/>
            </a:endParaRPr>
          </a:p>
          <a:p>
            <a:pPr marL="335880" indent="-3358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Los 144 mil escogieron el sello de Dios.</a:t>
            </a:r>
            <a:endParaRPr b="0" lang="en-US" sz="2600" spc="-1" strike="noStrike">
              <a:solidFill>
                <a:srgbClr val="000000"/>
              </a:solidFill>
              <a:latin typeface="Arial"/>
            </a:endParaRPr>
          </a:p>
          <a:p>
            <a:pPr marL="335880" indent="-3358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l asunto principal no es cuántos o quienes son; sino, los que son.</a:t>
            </a:r>
            <a:endParaRPr b="0" lang="en-US" sz="2600" spc="-1" strike="noStrike">
              <a:solidFill>
                <a:srgbClr val="000000"/>
              </a:solidFill>
              <a:latin typeface="Arial"/>
            </a:endParaRPr>
          </a:p>
          <a:p>
            <a:pPr marL="335880" indent="-3358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s algo que no puede ser escondido.</a:t>
            </a:r>
            <a:endParaRPr b="0" lang="en-US" sz="2600" spc="-1" strike="noStrike">
              <a:solidFill>
                <a:srgbClr val="000000"/>
              </a:solidFill>
              <a:latin typeface="Arial"/>
            </a:endParaRPr>
          </a:p>
          <a:p>
            <a:pPr marL="335880" indent="-3358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Testimonio – en sus bocas no fue hallada mentira” – atrayente por fuera por lo que tienen dentro. Son lo que aparentan.</a:t>
            </a:r>
            <a:endParaRPr b="0" lang="en-US" sz="2600" spc="-1" strike="noStrike">
              <a:solidFill>
                <a:srgbClr val="000000"/>
              </a:solidFill>
              <a:latin typeface="Arial"/>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SEMINARIO22ESP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457200" y="1523520"/>
            <a:ext cx="8229600" cy="4297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Me fue mostrado que la reforma pro salud es una parte del mensaje del tercer ángel, y está tan estrechamente relacionada con él como el brazo y la mano lo están con el cuerpo humano”. </a:t>
            </a:r>
            <a:r>
              <a:rPr b="1" i="1" lang="es-ES_tradnl" sz="2800" spc="-1" strike="noStrike">
                <a:solidFill>
                  <a:srgbClr val="000000"/>
                </a:solidFill>
                <a:latin typeface="Footlight MT Light"/>
              </a:rPr>
              <a:t>(Consejos sobre el régimen alimenticio, pág. 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SEMINARIO22ESP2"/>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457200" y="1066680"/>
            <a:ext cx="8229600" cy="4525920"/>
          </a:xfrm>
          <a:prstGeom prst="rect">
            <a:avLst/>
          </a:prstGeom>
          <a:noFill/>
          <a:ln w="0">
            <a:noFill/>
          </a:ln>
        </p:spPr>
        <p:txBody>
          <a:bodyPr anchor="t">
            <a:normAutofit fontScale="96000"/>
          </a:bodyPr>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Razones para proclamar el mensaje de salud</a:t>
            </a:r>
            <a:r>
              <a:rPr b="1" lang="es-ES_tradnl" sz="3000" spc="-1" strike="noStrike">
                <a:solidFill>
                  <a:srgbClr val="000000"/>
                </a:solidFill>
                <a:latin typeface="Footlight MT Light"/>
              </a:rPr>
              <a:t> </a:t>
            </a:r>
            <a:endParaRPr b="0" lang="en-US" sz="3000" spc="-1" strike="noStrike">
              <a:solidFill>
                <a:srgbClr val="000000"/>
              </a:solidFill>
              <a:latin typeface="Arial"/>
            </a:endParaRPr>
          </a:p>
          <a:p>
            <a:pPr marL="329040" indent="-329040" algn="ctr">
              <a:lnSpc>
                <a:spcPct val="10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Dios entra en contacto con nosotros por medio de nuestras percepciones (cuerpo). </a:t>
            </a:r>
            <a:endParaRPr b="0" lang="en-US" sz="2600" spc="-1" strike="noStrike">
              <a:solidFill>
                <a:srgbClr val="000000"/>
              </a:solidFill>
              <a:latin typeface="Arial"/>
            </a:endParaRPr>
          </a:p>
          <a:p>
            <a:pPr marL="329040" indent="-329040" algn="ctr">
              <a:lnSpc>
                <a:spcPct val="10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Interrelación entre salud física y espiritual – adorno para la venida de Cristo;</a:t>
            </a:r>
            <a:endParaRPr b="0" lang="en-US" sz="2600" spc="-1" strike="noStrike">
              <a:solidFill>
                <a:srgbClr val="000000"/>
              </a:solidFill>
              <a:latin typeface="Arial"/>
            </a:endParaRPr>
          </a:p>
          <a:p>
            <a:pPr marL="329040" indent="-329040" algn="ctr">
              <a:lnSpc>
                <a:spcPct val="10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l mensaje de salud nos da fuerzas para proclamar el mensaje del tercer ángel;</a:t>
            </a:r>
            <a:endParaRPr b="0" lang="en-US" sz="2600" spc="-1" strike="noStrike">
              <a:solidFill>
                <a:srgbClr val="000000"/>
              </a:solidFill>
              <a:latin typeface="Arial"/>
            </a:endParaRPr>
          </a:p>
          <a:p>
            <a:pPr marL="329040" indent="-329040" algn="ctr">
              <a:lnSpc>
                <a:spcPct val="10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l mensaje de salud atrae a otras personas a Cristo;</a:t>
            </a:r>
            <a:endParaRPr b="0" lang="en-US" sz="2600" spc="-1" strike="noStrike">
              <a:solidFill>
                <a:srgbClr val="000000"/>
              </a:solidFill>
              <a:latin typeface="Arial"/>
            </a:endParaRPr>
          </a:p>
          <a:p>
            <a:pPr marL="329040" indent="0" algn="ctr">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EMINARIO22ESP2"/>
          <p:cNvPicPr/>
          <p:nvPr/>
        </p:nvPicPr>
        <p:blipFill>
          <a:blip r:embed="rId1"/>
          <a:stretch/>
        </p:blipFill>
        <p:spPr>
          <a:xfrm>
            <a:off x="0" y="0"/>
            <a:ext cx="9144000" cy="6858000"/>
          </a:xfrm>
          <a:prstGeom prst="rect">
            <a:avLst/>
          </a:prstGeom>
          <a:ln w="0">
            <a:noFill/>
          </a:ln>
        </p:spPr>
      </p:pic>
      <p:sp>
        <p:nvSpPr>
          <p:cNvPr id="62" name="PlaceHolder 1"/>
          <p:cNvSpPr>
            <a:spLocks noGrp="1"/>
          </p:cNvSpPr>
          <p:nvPr>
            <p:ph/>
          </p:nvPr>
        </p:nvSpPr>
        <p:spPr>
          <a:xfrm>
            <a:off x="457200" y="1295280"/>
            <a:ext cx="8229600" cy="45259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a:t>
            </a:r>
            <a:r>
              <a:rPr b="1" lang="es-ES_tradnl" sz="2600" spc="-1" strike="noStrike">
                <a:solidFill>
                  <a:srgbClr val="000000"/>
                </a:solidFill>
                <a:latin typeface="Footlight MT Light"/>
              </a:rPr>
              <a:t>Mucho del prejuicio que impide que la verdad del mensaje del tercer ángel alcance los corazones de la gente, podría ser quitado si se diera más atención a la reforma pro salud. Cuando la gente llega a interesarse en este tema, a menudo está preparado el camino para la entrada de otras verdades. Si la gente ve que somos inteligentes con respecto a la salud, estará más lista a creer que somos ortodoxos en materia de doctrinas bíblicas”. (</a:t>
            </a:r>
            <a:r>
              <a:rPr b="1" i="1" lang="es-ES_tradnl" sz="2000" spc="-1" strike="noStrike">
                <a:solidFill>
                  <a:srgbClr val="000000"/>
                </a:solidFill>
                <a:latin typeface="Footlight MT Light"/>
              </a:rPr>
              <a:t>Consejos sobre el régimen alimenticio, pág. 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EMINARIO22ESP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676160"/>
            <a:ext cx="8229600" cy="4221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astores y miembros deben dedicar tiempo a promover la reforma de salud. Muchas personas están violando las leyes de salud establecidas por Dios por falta de conocimiento y otros por pura ignorancia.</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ime.chandia</cp:lastModifiedBy>
  <dcterms:modified xsi:type="dcterms:W3CDTF">2010-05-01T11:40:12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