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5F7-9FD2-40C7-A5F6-794994E3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6CE6-A13D-4C5E-B452-581F0ADC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21F2-5B8E-4A8C-90FA-66B05435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652-A9AB-4FED-9E30-210C88AA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4E7-A6E9-49DF-B560-EF5AF981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A91-C199-44A3-810C-153A70B1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A558-3789-405F-A405-8C5BF54F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171-B708-4C39-83FD-3CF60666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5AC9-8C0C-48BB-AFEA-F190B6EA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D895-3FF3-4907-9109-8FF1A0C8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5AB-4FD3-429C-B7A8-1D6A3A3F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EC7-2B3B-4F4D-9617-720A23B7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AB64-D633-407F-8A3A-D72D1857C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El mensaje de salud adventista debe ser positivo y atractivo, por eso todo el cuidado es necesario en la divulgación del mens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Forma equivocada de presentar el mensaje de sal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Fanatismo y críticas destructivas son conductas inadecuadas en la propagación del mensaje.  Esas actitudes sólo aumentan la resistencia en el proceso educativo al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El sentimiento de superioridad tampoco ayuda.  Vivir el mensaje de la salud no es prueba de discipu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Otro error común, es generalizar las excepciones y enfatizar algunas prácticas del mensaje de salud de Ellen G. Whi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Ejempl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Mezclar frutas y verduras en una misma comida: cuando se investiga el asunto, encontramos recomendaciones de la escritora  sólo para personas con digestión débil y no para personas en condiciones norm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Consumo de leche, huevos y azúcar.  Ellen G. White no es totalmente contraria al consu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La forma equivocada de transmitir el mensaje de salud ha impedido a las personas a conocer la verdadera dimensión de esas enseñanz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Cuando se comprende y se vive genuinamente el mensaje de salud, surge el deseo de proclamarlo y compartir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De todos los habitantes del mundo, los reformadores deben ser los más abnegados, bondadosos y corteses. En su vida debe manifestarse la verdadera bondad de las acciones desinteresadas.” (</a:t>
            </a:r>
            <a:r>
              <a:rPr b="1" i="1" lang="es-ES_tradnl" sz="2400" spc="-1" strike="noStrike">
                <a:solidFill>
                  <a:srgbClr val="000000"/>
                </a:solidFill>
                <a:latin typeface="Footlight MT Light"/>
              </a:rPr>
              <a:t>Consejos sobre el Régimen Alimenticio, pág. 55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No basta conocer la verdad, tenemos que poseer  el método adecuado para divulgar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Footlight MT Light"/>
              </a:rPr>
              <a:t>Metodología apropiada para la práctica y difusión del mensaje de sal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Footlight MT Light"/>
              </a:rPr>
              <a:t>El presentador del mensaje de salud debe tener cortesía, abnegación y bon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Footlight MT Light"/>
              </a:rPr>
              <a:t>Educar de manera agradable e inteligente es el mejor y más efectivo método para promover cambios en la salu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Footlight MT Light"/>
              </a:rPr>
              <a:t>Presentar los grandes principios bíblicos en lugar de enfatizar un hábito o un alimento en particular.  Es necesario hablar primero de la calidad de vida que se obtienen a través de vivencias de este mensa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Footlight MT Light"/>
              </a:rPr>
              <a:t>Dejar que el Espíritu Santo ayude a las personas a hacer cambios progresivos en el tiempo apropia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000000"/>
                </a:solidFill>
                <a:latin typeface="Footlight MT Light"/>
              </a:rPr>
              <a:t>Fuente:  La Ciencia del Buen Vivir, pág. 15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Footlight MT Light"/>
              </a:rPr>
              <a:t>El propósito del mensaje de salud es promover una mejor calidad de vida y un condicionamiento físico, mental y espiritual que nos capacite para tener más elevada comunicación con Di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Footlight MT Light"/>
              </a:rPr>
              <a:t>Para divulgar correctamente el mensaje de salud,  necesitamos utilizar una metodología adecuada.  El mejor método es el orientado en la educación, a través  del tacto, la cortesía y la benefic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7:48:00Z</dcterms:created>
  <dc:creator>monica.alana</dc:creator>
  <dc:description/>
  <dc:language>en-US</dc:language>
  <cp:lastModifiedBy>Nelida Ruiz</cp:lastModifiedBy>
  <dcterms:modified xsi:type="dcterms:W3CDTF">2007-10-30T11:57:53Z</dcterms:modified>
  <cp:revision>18</cp:revision>
  <dc:subject/>
  <dc:title>Slide 1</dc:title>
</cp:coreProperties>
</file>