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670-BCB0-4A43-8834-1CCA30A1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E3D-CAA3-4416-8F7D-CD28A9FF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E1B-6EEC-4CF1-BC91-5F22AA1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E64-7794-4FD4-BA34-31DD9EB3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F61-4A50-42B3-B72E-C0C8639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2EB-3E2D-4117-95F2-8F471B6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6CA-1884-4651-95E2-F2B1B345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584-230E-4CFF-B325-90E61BF5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ED1-992F-40CC-87D3-BDA0A4E8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07-6DEF-4DF2-A8EF-0E06EEB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2BD-08F7-4BAC-ABF1-4E702BF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489-2F70-4FF5-B2A2-26D1C38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540-9554-4225-910B-5EC6AB68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estrés y la depresión son hoy grandes marcas de la vida moderna. Casi 1/4 de la población mundial está en tratamiento psicológico o toma psicoterápicos (calmantes o estimulantes) para trastornos emocionales, neurosis, depresión, ansiedad, angustia o in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¿Qué es el estrés? ¿Cómo nos alcan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trés es la respuesta involuntaria del organismo, que abarca reacciones físicas, mentales, emocionales y químicas, ante cualquier circunstancia que perturbe su equilibrio normal. El estrés no es lo que nos sucede, sino, la respuesta a lo que nos acont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Salud y vida espirit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El ser humano fue formado por el Creador con las dimensiones física, mental y espiritual. Esas dimensiones no son independi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No basta solamente que la partes física y mental estén en perfectas condiciones. Para componer el todo existe la necesidad de desarrollar y crecer también espiritualmente; sólo entonces seremos  saludables y fel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mentablemente el ser humano de hoy está distanciándose cada vez más de Dios, de la naturaleza y los unos de los otros; de esta forma, adquiere hábitos de vida que en vez de promover la salud, desarrollan la enfermedad, el dolor y el sufrimient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1. Malos hábitos de alimen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Uso exagerado de los refinados, dulces y productos industrializados sobrecargados de conservantes, colorantes, aromatizantes y otros tantos aditivos químicos perjudiciales a l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as frutas, verduras e integrales, que promueven vida y salud, están prácticamente en desu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2. Uso de estimula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café, el té, el mate y especialmente la guaraná en polvo, contienen cafeína, que perjudican considerablemente a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Estas bebidas que contienen xantinas (enzimas tóxicas), actúan directamente como estimulantes y también como potencializadoras de disturbios.</a:t>
            </a: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a) Aparato digestivo – se produce irritación gástrica, mala digestión, acidez, flatulencia, dolores abdominales, constipación, diarre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b) Sistema circulatorio – producen aceleración cardiaca y hasta arritmias, alterando también la presión ar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c) Sistema nervioso central – Producen una ilusoria sensación de energía y bienestar, seguida de depresión. Investigaciones muestran que la ansiedad y la depresión aumentan juntamente con el aumento del consumo de cafeína. Además, lleva a la dependenci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3. Uso del alcohol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alcohol es una de las pocas substancias que no se transforma por la digestión. Pasa directamente del estómago a la corriente sanguínea, de esta manera es llevado rápidamente para todas las partes del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os principales efectos son sentidos primeramente en el cerebro, luego en el hígado y el pá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4. 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agua es esencial para la preservación de la vida. 70% de nuestro cuerpo es compuesto de líquidos. Lamentablemente bebemos poca agua. Usamos más refresco y jugos artifici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Información: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Beba mucha agua, incluso sin tener sed. Esto es asunto de hábito y no de gu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5. S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uso </a:t>
            </a:r>
            <a:r>
              <a:rPr b="0" i="1" lang="es-ES_tradnl" sz="3200" spc="-1" strike="noStrike">
                <a:solidFill>
                  <a:srgbClr val="000000"/>
                </a:solidFill>
                <a:latin typeface="Footlight MT Light"/>
              </a:rPr>
              <a:t>exagerado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de sal también es una de las grandes marcas de nuestra sociedad. Como resultado, vienen: la hipertensión (presión alta), que afecta gran parte de la población; y, los cálculos renales que traen dolor y sufr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El mundo era perfecto antes del pecado. La humanidad vivía en perfecta salud, paz y dicha. Sin embargo, todo cambió. El pecado trajo enfermedades y muerte.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6. Azú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Otro serio problema de salud pública es el uso en </a:t>
            </a:r>
            <a:r>
              <a:rPr b="0" i="1" lang="es-ES_tradnl" sz="2800" spc="-1" strike="noStrike">
                <a:solidFill>
                  <a:srgbClr val="000000"/>
                </a:solidFill>
                <a:latin typeface="Footlight MT Light"/>
              </a:rPr>
              <a:t>exceso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 de azúcar, dulces, helados y golos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os estudios demuestran que el hombre moderno está ingiriendo más de 60 Kg. de azúcar refinado anualmente, y los resultados son niveles vertiginosos de caries dentales, obesidad, diabetes y muchas otras enferm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7. Grasas saturadas y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Solo en Brasil, mueren anualmente aproximadamente 800 mil personas por enfermedades del corazón y de las arteri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Casi 50% de la humanidad muere debido a la arteriosclerosis, que es la obstrucción y endurecimiento de las arterias. El mal colesterol y las grasas saturadas son los mayores responsables de esa obstru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8. Irregularidad de vi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Nuestro organismo posee un reloj biológico. Cuanto más regulares son nuestros hábitos, mejor será el funcionamiento de cada órg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Por eso, es necesario respetar las horas de dormir, comer, trabajar, etc. Esto es un asunto de orden y equilib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Footlight MT Light"/>
              </a:rPr>
              <a:t>9. Uso exagerado de medic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vite el uso indiscriminado de medicinas. Muchas personas toman medicina incluso por una leve cefalea.  En vez de buscar descubrir y abandonar la causa de las enfermedades, nos saturamos de medicinas que solamente apocan los sínto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Dios nos creó para ser felices y saludables, no enfermos. Los hábitos que formamos  son los que determinan nuestro dest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Actualmente, el Gobierno gasta millones de dólares en investigaciones y en el desarrollo de nuevas tecnologías y medicamentos. Todo esto para combatir la enferm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¿Qué es salu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Algunos dicen que salud es ausencia de enfermedades. ¿Pero será que es solo eso? ¡No! Salud es el perfecto equilibrio físico, mental y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Es importante recordar que físicamente somos el resultado de aquello que comemos y de los ejercicios que hacemos. Por eso, sin ejercicio físico no hay sal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Es obvio que no siempre todos pueden hacer el mismo </a:t>
            </a:r>
            <a:r>
              <a:rPr b="1" i="1" lang="es-ES_tradnl" sz="3600" spc="-1" strike="noStrike">
                <a:solidFill>
                  <a:srgbClr val="000000"/>
                </a:solidFill>
                <a:latin typeface="Footlight MT Light"/>
              </a:rPr>
              <a:t>tipo</a:t>
            </a: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 y la misma </a:t>
            </a:r>
            <a:r>
              <a:rPr b="1" i="1" lang="es-ES_tradnl" sz="3600" spc="-1" strike="noStrike">
                <a:solidFill>
                  <a:srgbClr val="000000"/>
                </a:solidFill>
                <a:latin typeface="Footlight MT Light"/>
              </a:rPr>
              <a:t>cantidad</a:t>
            </a: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 de ejercicios. Eso varía de acuerdo con la edad, condiciones físicas y la preferencia de cada u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Sin ejercicio físico regular, todas las células vivas, los tejidos y los órganos empiezan a envejecer; y el cuerpo, como un todo, envejece mucho más rápida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n el pasado, el ser humano tenía que moverse para sobrevivir. Por eso, era mucho más saludable y fel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Hoy, con el avance de la tecnología las máquinas hacen todo. Sólo necesitamos hacer esfuerzo físico. En consecuencia vivimos mucho más enfermos, estresados e infe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Footlight MT Light"/>
              </a:rPr>
              <a:t>Salud y Mente</a:t>
            </a: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Salud no es solo bienestar físico, sino también, perfecto equilibrio físico y  mental</a:t>
            </a:r>
            <a:r>
              <a:rPr b="0" lang="es-ES_tradnl" sz="40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Gazioli</cp:lastModifiedBy>
  <dcterms:modified xsi:type="dcterms:W3CDTF">2007-10-29T00:13:3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