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2CE-3871-483D-9C00-8F8F9563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C32-22EA-486F-A4D2-FD9ED2B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284-F23C-4116-B642-C12F05D1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39D-3F4A-4636-9383-F8DEA318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2E7-75B4-4748-887D-D915A6FC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A33-BAD2-4B09-8A1B-624E117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B06-275E-4E87-B6EF-40B4833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EA2-6EA7-4C68-A54D-12B083BE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8CE-C947-4E59-A68C-A6834A47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8C9-27BD-4730-A3A0-8C53CE6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DF5-8E8C-443C-98EA-6F55F0F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4DE-1A9D-4F47-A5F1-803FD5A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3351-1331-493C-892C-854B4857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Cuando pasamos por momentos de estrés gastamos mucha energía. Si ese proceso demora y es continuo, podemos sufrir una serie de consecuencias para la salud física, mental, social y espiritu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Disturbios cardiovascula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Hipertensión arter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Palpitac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Problemas ren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Variación de los niveles de azúcar, colesterol y triglicéridos en la sang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Cansanc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Pérdida o acumulación de pe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Agotamiento fís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Problemas al estómago, perturbaciones digestivas y muchos otr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Así, no podemos adorar a Dios en espíritu y en ver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n esas condiciones, ¿cómo podemos presentar nuestro cuerpo a Dios en “sacrificio vivo, santo y agradable”? ¿Cómo podemos prestar a Dios un “culto racional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l enemigo nos quiere mantener ocupados, por eso muchas veces decimos que no tenemos tiempo para 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Cuando el Sistema Nervioso Autónomo Simpático permanece activo todo el tiempo, gastamos tanta energía que quedamos debilitados, desgastados y enfer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RECUERDE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parasimpático es el que llevará al organismo a recomponerse y a recobrarse del desgaste sufrido por el simpá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 necesario desactivar el Simpático y ofrecer el tiempo necesario y suficiente para que el Parasimpático actúe con sus buenas hormonas, con acciones de reposición, relajamiento y analgesia (alivio del dol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¿Cómo activar el Sistema Nervioso Parasimpát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meditación hecha en forma de oración, reflexión y estudio de la Biblia es uno de los caminos para activa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gran secreto para una vida plena y eficaz es meditar buscando a Dios en las primeras horas de cada mañana. Además, es importante repetir este momento de trascendencia varias veces durante el d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Jesucristo hacía así. Al amanecer y al finalizar el día se retiraba a solas para meditar y orar al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Actuando de esa forma el Sistema Nervioso Simpático es desactivado, pasando a actuar el Parasimpático sobre nuestro cuerpo, trayendo el equilibrio y la pa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 “</a:t>
            </a: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Fueron halladas tus palabras, y yo las comí; y tu palabra me fue por gozo y por alegría de mi corazón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” 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(Jer. 15: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Sra. Ellen G. White nos aconse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meditación, al menos por 20 minutos, ya hace una gran diferencia en nuestra vida y en nuestr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Footlight MT Light"/>
              </a:rPr>
              <a:t>El cuerpo humano está constituido por varios y diferentes sistemas com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Footlight MT Light"/>
              </a:rPr>
              <a:t>Sistema nervioso: cerebro y nerv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Footlight MT Light"/>
              </a:rPr>
              <a:t>Sistema endocrino: hormon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RECOMENDACIÓN ES: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Cuando el día no parece tener fin y nos sentimos incapaces de continuar, pare y medite. Deje actuar al Parasimpát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s en el silencio del alma que oímos la voz de nuestro Padre Celestial, que nos orienta y nos lleva por los mejores caminos, y nos concede paz aún en medio de las tempest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l sueño también desactiva el Sistema Nervioso Simpático casi por completo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Por eso, ¡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ATENCIÓN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Footlight MT Light"/>
              </a:rPr>
              <a:t>Dormir bien y a la hora adecuada es una de las medicinas maravillosas dadas por D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 importante saber también que la meditación al final del día, cuando vamos a  dormir, sirve para desconectar el Simpático y permitir que el Parasimpático sea utilizado por Dios en la recuperación de sus energías y en su fortalecimiento durante las horas de reposo y su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as células del sistema nervioso llamadas 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neuronas,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son el único medio de comunicarnos con Dios y El con nosotros. 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Con la mente servimos al Seño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Las neuronas son responsables de coordinar y regular todas las funciones corporales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Footlight MT Light"/>
              </a:rPr>
              <a:t>El sistema nervioso está compuesto por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Footlight MT Light"/>
              </a:rPr>
              <a:t>Sistema Nervioso Central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: recibe, analiza e integra informaciones. Es el lugar donde se realiza la toma de decisiones y el envío de órde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Footlight MT Light"/>
              </a:rPr>
              <a:t>Sistema Nervioso Periférico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: acarrea informaciones de los órganos de los sentidos (audición, visión, olfato, tacto y paladar) hacia el Sistema Nervioso Central y éste envía órdenes para que las glándulas y los músculos actúen (órganos reflector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l Sistema Nervioso Periférico contiene nervios somáticos y autóno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¿Cuál es el Sistema Autónom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Es aquel que no controlamos (sudor, escalofríos, respiración, latidos, funcionamiento del estómago, intestinos y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te sistema se divide en: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Simpá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Parasimp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as acciones de estos dos sistemas son antagónicos (contrarios). Uno corrige los excesos o las faltas del otro simultáneamente. Es el Sistema Nervioso Autónomo el que mantiene el equilibrio de todo nuestro organ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Func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Sistema Nervioso Periférico Autónomo Simpático:</a:t>
            </a: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 es responsable de estimular las acciones que movilizan la energía (efectos de alerta), permitiendo al organismo responder a situaciones de presión y estrés. Es él quien nos da la capacidad para reac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Sistema Nervioso Periférico Autónomo Parasimpático:</a:t>
            </a: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 es responsable de estimular principalmente, las actividades relaja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1143000"/>
            <a:ext cx="2666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Efectos de Al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(Estr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3716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Efectos Calm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33360" y="1295280"/>
            <a:ext cx="4619880" cy="2573280"/>
            <a:chOff x="2133360" y="1295280"/>
            <a:chExt cx="4619880" cy="2573280"/>
          </a:xfrm>
        </p:grpSpPr>
        <p:sp>
          <p:nvSpPr>
            <p:cNvPr id="58" name=""/>
            <p:cNvSpPr/>
            <p:nvPr/>
          </p:nvSpPr>
          <p:spPr>
            <a:xfrm>
              <a:off x="3665880" y="1295280"/>
              <a:ext cx="1823040" cy="1287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2296080"/>
              <a:ext cx="158076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63080" y="2439720"/>
              <a:ext cx="1093320" cy="12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544200" y="2582640"/>
              <a:ext cx="607680" cy="12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5200" y="2439720"/>
              <a:ext cx="365040" cy="14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16200" y="2296080"/>
              <a:ext cx="8506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37880" y="2153880"/>
              <a:ext cx="1215360" cy="142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86200" y="1371600"/>
            <a:ext cx="137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Nerv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886200"/>
            <a:ext cx="3886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Footlight MT Light"/>
              </a:rPr>
              <a:t>Sistema Nervioso Simp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ootlight MT Light"/>
              </a:rPr>
              <a:t>Alerta emo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Reacción de lucha o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ootlight MT Light"/>
              </a:rPr>
              <a:t>Alegría, rabia, miedo, ansiedad, etc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886200"/>
            <a:ext cx="4419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Footlight MT Light"/>
              </a:rPr>
              <a:t>Sistema Nervioso Parasimp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ootlight MT Light"/>
              </a:rPr>
              <a:t>Tranqu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Footlight MT Light"/>
              </a:rPr>
              <a:t>Reacción de relax e insens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Calma, sensación de bienesta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Sufrimos presiones a cada momento y éstas son llevadas a nuestro Sistema Nervioso Central. Cuando el Sistema Nervioso Simpático funciona en pleno, carga una serie de hormonas que son activadas y llevadas por la sangre para actuar en cada órgano, tejido y célula del cuerpo, poniéndonos en condiciones de enfrentar y reaccionar a la situación (o pres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Gazioli</cp:lastModifiedBy>
  <dcterms:modified xsi:type="dcterms:W3CDTF">2007-10-28T15:14:0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