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242-AC62-436C-B06C-577A5EFF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09E-D8DC-48DC-88A9-39E31429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5FE-8170-42F3-A916-DCDE149C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700-CBCD-44BA-9632-8C4DF148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274-DC29-4DFC-8DA5-0A9FD847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B25-10C7-43B0-8AB5-D332272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BA8-F7FD-4B30-8930-365F6AED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1EB-8D9F-4DAA-963E-2D6B2AAB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98E-1E20-490A-90DB-C614D63B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A1C-7012-47C5-B460-4FAD158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816-99C6-4EC8-80B2-FB6ADC1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25E-31A0-45AE-A3A5-942FC4B9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B06-1DB4-4353-9493-BD5A6F51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ootlight MT Light"/>
              </a:rPr>
              <a:t>¿Cuál es el impacto del ejercicio en la postura del ser humano?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l ejercicio estimula nuestro cerebro para producir endorfinas. Éstas son importantes para controlar el dolor y regular la presión de la sangre y la temperatura corpo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Las endorfinas son decenas de veces más poderosas que la heroína y la morfina. En términos de poder estimulante tienen un gran impacto en la actitud, en la voluntad y en la perspectiva men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Las endorfinas producen bienestar. Nos dan la sensación de paz que nos ayuda a ver los problemas en su verdadera dimens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Si las endorfinas son tan importantes,  ¿cómo podemos producirl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oración, la meditación, el amor, la sonrisa y la actitud positiva son estímulos que producen endorfinas. Además, el ejercicio aeróbico hecho regularmente es capaz de producir cantidades significativas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Algunos ejemplos de ejercicios aeróbicos: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Trabajar en el campo; es decir, cultivar la tierra sistemáticament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Camin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Subir colin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Saltar la cuer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Andar en bicic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Footlight MT Light"/>
              </a:rPr>
              <a:t>El ejercicio de tipo aeróbico produce gran consumo de oxígeno, lo que favorece la producción de endorf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¿Cuáles son las condiciones para transformar un ejercicio común en ejercicio aeróbic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Footlight MT Light"/>
              </a:rPr>
              <a:t>Frecuencia: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Por lo menos cuatro veces por semana. Una vez por semana ayuda, pero no es su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Footlight MT Light"/>
              </a:rPr>
              <a:t>Tiempo de ejercicio aeróbico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: Haga un precalentamiento y después haga por lo menos 35 minutos de ejerc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i="1" lang="es-ES_tradnl" sz="3600" spc="-1" strike="noStrike">
                <a:solidFill>
                  <a:srgbClr val="000000"/>
                </a:solidFill>
                <a:latin typeface="Footlight MT Light"/>
              </a:rPr>
              <a:t>Curiosidad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: Durante los primeros siete minutos de ejercicio usted consume glucosa circulante. De allí en delante, si continúa el ejercicio, consumirá las calorías almacenadas; y después de 30 minutos, la gordura almacenada. Ese proceso completo es posible por el consumo abundante de oxíg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Footlight MT Light"/>
              </a:rPr>
              <a:t>Intensidad.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El ejercicio debe ser por lo menos con intensidad mode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Footlight MT Light"/>
              </a:rPr>
              <a:t>El ejercicio aeróbico debe producir sudor en abundancia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. Esto es señal segura de secreción de tox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spués de todo eso, observe los result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o normal es que la persona se sienta bien relajada después de una ducha, así, los problemas de la vida aparecerán menos avasalladores. La endorfina ayuda a ver los problemas en su verdadera dimensión, al paso que proveen energía suficiente, fuerza y entusiasmo para continuar las tareas de la vida di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Footlight MT Light"/>
              </a:rPr>
              <a:t>Una información importante a los estudiantes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l ejercicio aeróbico provee la oportunidad de relajarse, facilitando el estudio sin tensiones ni presiones emocionales. Además, el efecto de la endorfina produce energía para enfrentar todos los desafíos académ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n este seminario, conocerá los beneficios del ejercicio físico de acuerdo a Ellen G. W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studiaremos el tipo, la frecuencia, la intensidad y la calidad del ejercicio físico, capaz de condicionar y revigorizar la mente y el espíri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Al introducir el ejercicio aeróbico no deje que nada lo estorbe. Hágalo con perseverancia, de manera progresiva, y los resultados vendrán como consecuenc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¿</a:t>
            </a:r>
            <a:r>
              <a:rPr b="1" i="1" lang="es-ES_tradnl" sz="3200" spc="-1" strike="noStrike">
                <a:solidFill>
                  <a:srgbClr val="000000"/>
                </a:solidFill>
                <a:latin typeface="Footlight MT Light"/>
              </a:rPr>
              <a:t>No sabéis que los que corren en el estadio, todos a la verdad corren, pero uno solo se lleva el premio? Corred de tal manera que lo obtengáis.  Todo aquel que lucha, de todo se abstiene; ellos, a la verdad, para recibir una corona corruptible, pero nosotros, una incorruptible”. 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(1 Cor. 9:24 y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vida de un atleta requiere severa preparación. Solo así es posible vencer y ganar el premio. La vida de un cristiano también debe ser así. Necesitamos ser moderados en la alimentación, en las bebidas, y practicar actividades físicas a fin de fortalecer nuestro cuerp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A partir de allí, estaremos habilitados para una comunión plena con D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000000"/>
                </a:solidFill>
                <a:latin typeface="Footlight MT Light"/>
              </a:rPr>
              <a:t>El vigor mental y el espiritual dependen del ejercicio. Hacer una actividad física es uno de los recursos de salud que tiene mayor impacto en el cuerpo, en la mente y en el espíritu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Bookman Old Style"/>
              </a:rPr>
              <a:t>¿Cuáles son los beneficios del ejercicio físico regular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n el organismo</a:t>
            </a: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Favorece la digest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Mejora la circulación de la sang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Mejora la secreción de todas las substancias reguladoras del organism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Fortalece los músculos, los huesos y el sistema inmunológ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Disminuye el colesterol negativo y la presión arteri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Contribuye a la reducción del peso y manutención del peso ide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n la mente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Da una sensación de bienestar; acaba con la somnolencia y el cansanci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Mejora las actitudes ante la vida; acondiciona la mente para el estudi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Alivia el estrés, combate la depresión, aumenta el nivel de energía psicológic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Predispone la mente para la meditación y produce un sueño reparad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Aumenta el vigor sexual y reduce los niveles de ansi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En la vida espiritu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Predispone el espíritu para el estudio de la Biblia y la oració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Crea las condiciones apropiadas para el ayuno y la meditació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Predispone la mente para entrar en contacto con el Espíritu Santo, realizando una actividad devocional de c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Gazioli</cp:lastModifiedBy>
  <dcterms:modified xsi:type="dcterms:W3CDTF">2007-10-28T16:09:5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