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7833-1E9D-4D03-9B7E-60037A2E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4D06-CC93-4D30-B107-360EB93B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C12B-5392-4700-879B-F98B794B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DEF-3F56-49FC-A970-2533AF2D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531-D981-4C71-AD6F-288EDDBA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D0B-9E26-4DFD-8513-2FBC1E1F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4A6F-7362-4A7E-8E81-A3B1CB59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1C51-6384-4258-9958-34E73CB5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8BF2-7856-448B-BF39-74D3C5CF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BF46-6941-4AED-B9B9-C12B29FB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CD4-30FD-49EB-A1EF-08D3B55F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61D-AD37-4872-A431-5B86C6FC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F71B-7A29-4A46-A03F-345EE981C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La formación de hábitos de salud debe comenzar en el ambiente famili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1" i="1" lang="es-ES_tradnl" sz="3200" spc="-1" strike="noStrike">
                <a:solidFill>
                  <a:srgbClr val="000000"/>
                </a:solidFill>
                <a:latin typeface="Footlight MT Light"/>
              </a:rPr>
              <a:t>Enseña el niño en su camino y, aún cuando fuere viejo, no se apartará de él</a:t>
            </a: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” </a:t>
            </a: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(Prov. 22: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Footlight MT Light"/>
              </a:rPr>
              <a:t>La Importancia de la famili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La familia como agente de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La familia como agente de 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La familia como agente de de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La familia como agente de trans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Es en el entorno familiar donde el niño aprende sus primeras le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Footlight MT Light"/>
              </a:rPr>
              <a:t>El papel de la famili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Footlight MT Light"/>
              </a:rPr>
              <a:t>Papel educativo y sociable de la famil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Footlight MT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Footlight MT Light"/>
              </a:rPr>
              <a:t>Lengua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Footlight MT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Footlight MT Light"/>
              </a:rPr>
              <a:t>Comport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Footlight MT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Footlight MT Light"/>
              </a:rPr>
              <a:t>Val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Footlight MT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Footlight MT Light"/>
              </a:rPr>
              <a:t>Técn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Footlight MT Light"/>
              </a:rPr>
              <a:t>Origen biológico del individu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Footlight MT Light"/>
              </a:rPr>
              <a:t>Desarrollo emo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Organización de la vida fam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Conjunto de necesidades funcionales – que tienen valor de supervivenc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Negociación -  el ambiente familiar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¿</a:t>
            </a: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es más participativo o dictatorial?</a:t>
            </a: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Expectativas del grupo familiar - cuáles son los valores que la familia cultiva con respeto al estilo de vida, profesión, religión, etc.</a:t>
            </a: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Construcción de una ident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Auto-im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Auto-es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Footlight MT Light"/>
              </a:rPr>
              <a:t>Los hábitos formados en la infancia y la juventud, los gustos adquiridos, el dominio propio logrado, los principios inculcados desde la cuna, han de determinar el futuro del hombre o de la mujer.  El crimen y la corrupción resultantes de la intemperancia y las costumbres relajadas podrían ser evitados por la debida educación de la juventud” </a:t>
            </a:r>
            <a:r>
              <a:rPr b="0" i="1" lang="es-ES_tradnl" sz="2800" spc="-1" strike="noStrike">
                <a:solidFill>
                  <a:srgbClr val="000000"/>
                </a:solidFill>
                <a:latin typeface="Footlight MT Light"/>
              </a:rPr>
              <a:t>(Mensaje para los Jóvenes, pág. 2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Footlight MT Light"/>
              </a:rPr>
              <a:t>Previniendo enfermedades en la famili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Establezca un vínculo afectivo mutuo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Esté emocionalmente disponible a los hij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Aliente comportamientos convenientes y desaliente los no convenient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Establezca límites apropiad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Comience a educar en la infanci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ootlight MT Light"/>
              </a:rPr>
              <a:t>No desista. Persev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Footlight MT Light"/>
              </a:rPr>
              <a:t>Informaciones para la educación de los hij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Los padres necesitan ser buen ejemplo para los hijos. El ejemplo es uno de los métodos más eficaces en la educ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Los primeros hábitos son una influencia en la formación del carác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Es mucho más fácil enseñar lo que es correcto cuando niño, que desaprender hábitos estableci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Padre y madre deben estar unidos en la educación de los hijo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Cuidado con los mimos.  Los padres son los mayores responsables por la salud física y moral de sus hij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otlight MT Light"/>
              </a:rPr>
              <a:t>Ore con los hijos y enséñele las leyes de salu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Gazioli</cp:lastModifiedBy>
  <dcterms:modified xsi:type="dcterms:W3CDTF">2007-10-28T14:31:1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