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519-4F42-4C36-8E38-BC91C788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E61-BA1F-4DD9-8E13-5D2D5B8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F72-AB98-45BA-9DA8-2D101DE5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B86-1905-4F56-B71F-5B00168A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167-4080-4F53-B3A9-34C0565E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085-B283-4ECF-80B5-DD731F36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691-528B-44BA-9EE0-334DB69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3E3-E3FB-4349-AAA9-1DDEF71A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889-DF6C-40B7-9CFD-C219B3EF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28D-7950-468E-8755-83EAACDD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50C-24C3-4C26-B9DA-A70E6F8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4C9-E20D-4D1A-AEED-1AF7709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98BF-1859-41C4-B375-5214EF8CC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Quinto paso: 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Haga una programación de la conducta 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Primero, conteste a las preguntas: ¿Cómo? ¿Qué? ¿Cuándo? ¿Dónde? ¿Y con quié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¿Cómo aprenderé la nueva conducta que me prop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¿Qué haré para alcanzar mi m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¿Cuándo o a qué hora la practicar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¿Dónde comenzaré a practicar la nueva conducta? ¿Será bueno en cualquier lug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¿Contaré con un(a) compañero(a) para practicar esa conduc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Después, haga un pequeño programa de cambio, dividido en dos etap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tap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1240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1240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02920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31240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1240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65760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411480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57200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0481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Comience aprendiendo a tomar 2 vasos de agua por día.</a:t>
            </a:r>
            <a:r>
              <a:rPr b="0" lang="pt-BR" sz="1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¿Cuándo?</a:t>
            </a:r>
            <a:r>
              <a:rPr b="1" lang="pt-BR" sz="1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6576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A las 10:00 todos los días.</a:t>
            </a:r>
            <a:r>
              <a:rPr b="1" lang="pt-BR" sz="1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¿Dónde?</a:t>
            </a:r>
            <a:r>
              <a:rPr b="1" lang="pt-BR" sz="1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03848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Footlight MT Light"/>
              </a:rPr>
              <a:t>De lunes a viernes en mi trabajo, sábado en la iglesia y domingo en mi casa</a:t>
            </a:r>
            <a:r>
              <a:rPr b="0" lang="es-ES_tradnl" sz="1500" spc="-1" strike="noStrike">
                <a:solidFill>
                  <a:srgbClr val="000000"/>
                </a:solidFill>
                <a:latin typeface="Footlight MT Light"/>
              </a:rPr>
              <a:t>.</a:t>
            </a:r>
            <a:r>
              <a:rPr b="0" lang="pt-BR" sz="15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648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¿Con quién?</a:t>
            </a:r>
            <a:r>
              <a:rPr b="1" lang="pt-BR" sz="1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4572000"/>
            <a:ext cx="52578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Footlight MT Light"/>
              </a:rPr>
              <a:t>Mi esposa me llamará al trabajo 5 minutos antes para recordarme. Juntos tomaremos agua los sábados y domingo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Un mes después cuando ya sea natural tomar agua por la mañana, pase a la etapa 2 del progra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tapa 2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6668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63868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305920" y="26665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914400" y="266688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6668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04812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80988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49568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¿Cómo?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¿Cuándo?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¿Dónde?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</a:rPr>
              <a:t>¿Con quién?</a:t>
            </a:r>
            <a:r>
              <a:rPr b="1" lang="pt-BR" sz="1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666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otlight MT Light"/>
                <a:ea typeface="굴림"/>
              </a:rPr>
              <a:t>Aumentar 4 vasos de agua por día, alcanzando a 6 vasos</a:t>
            </a:r>
            <a:r>
              <a:rPr b="0" lang="es-ES_tradnl" sz="1800" spc="-1" strike="noStrike">
                <a:solidFill>
                  <a:srgbClr val="000000"/>
                </a:solidFill>
                <a:latin typeface="Footlight MT Light"/>
                <a:ea typeface="굴림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Footlight MT Light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04812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Footlight MT Light"/>
                <a:ea typeface="굴림"/>
              </a:rPr>
              <a:t>Todos los días a las 10:00, como ya me acostumbré. Añadiré 2 vasos al levantarme por la mañana, más 2 vasos a las 16:00, todos los días.</a:t>
            </a:r>
            <a:r>
              <a:rPr b="1" lang="pt-BR" sz="1600" spc="-1" strike="noStrike">
                <a:solidFill>
                  <a:srgbClr val="000000"/>
                </a:solidFill>
                <a:latin typeface="Footlight MT Light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388620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Footlight MT Light"/>
                <a:ea typeface="굴림"/>
              </a:rPr>
              <a:t>Al levantarme, en la cocina de mi casa.  En la tarde de lunes a viernes en mi trabajo y los sábados y domingos en mi casa.</a:t>
            </a:r>
            <a:r>
              <a:rPr b="1" lang="pt-BR" sz="1600" spc="-1" strike="noStrike">
                <a:solidFill>
                  <a:srgbClr val="000000"/>
                </a:solidFill>
                <a:latin typeface="Footlight MT Light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495680"/>
            <a:ext cx="571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Footlight MT Light"/>
                <a:ea typeface="굴림"/>
              </a:rPr>
              <a:t>Mi esposa que se levanta a la misma hora, hará lo mismo voluntariamente, pero haremos una competencia sobre quién será el primero en tomar agua.  Por la tarde lo haré solo en mi trabajo, y  los fines de semana, con mi esposa en casa.</a:t>
            </a:r>
            <a:r>
              <a:rPr b="0" lang="pt-BR" sz="1600" spc="-1" strike="noStrike">
                <a:solidFill>
                  <a:srgbClr val="000000"/>
                </a:solidFill>
                <a:latin typeface="Footlight MT Light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A continuación, encuentra una pequeña lista de hábitos que usted puede alterar utilizando este programa</a:t>
            </a: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Hacer ejercicios cuatro veces por sema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Dormir 8 horas por dí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Acostarse tempra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Abandonar el consumo de bebidas con cafeí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Tomar un buen desayuno todos los dí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Cenar alimentos rápidos, de fácil digest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Sustituir el consumo de carne tres días por sema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Comer en horas fij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Controlar los pensamientos negativos que producen estrés y /o ansieda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Footlight MT Light"/>
              </a:rPr>
              <a:t>Controlar el tiempo gastado en la televisión, internet, vídeo games, películas y otr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Sexto paso: 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Los refuer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Conceda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stímulos o premios a sí mismo o el uno al otro</a:t>
            </a:r>
            <a:r>
              <a:rPr b="0" lang="es-ES_tradnl" sz="20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sos premios son llamados refuerzos. El objetivo es estimular y reanimar en la nueva conducta que están implementando para la vida. Hay dos clases de refuerzo: materiales y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Refuerzos Materiales: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 Son objetos que se regalan como premio, o que se otorgan el uno al otro, cada cierto período, por haber cumplido su programa di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Refuerzos Sociales: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 Son los actos o palabras de reconocimiento y estímulo que la propia persona se da, otorga a otros o recibe de o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ootlight MT Light"/>
              </a:rPr>
              <a:t>Elabore un certificado de compromiso con la siguiente declaració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Yo, _______________, consciente de los beneficios de beber agua, y deseoso (a) de disfrutar una vida más plena, decido hoy (fecha) __________, que, por la gracia de nuestro buen Dios y la ayuda de mi familia, 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BEBERÉ 6 VASOS DE AGUA POR DÍA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, de acuerdo con el presente progra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Firma: 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 “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PUEDO HACER TODAS LAS COSAS, EN AQUÉL QUE ME FORTALE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ootlight MT Light"/>
              </a:rPr>
              <a:t>Después, póngalo en un lugar visible donde pueda verlo frecuentemente. Haga también otras copias para colocar en la Biblia, en la Lección de la Escuela Sabática, en su(s) libro(s) favorito(s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Footlight MT Light"/>
              </a:rPr>
              <a:t>Sugerenci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1.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Semanalmente busque un lugar tranquilo para leer su proyecto individual de auto-educación y responda mentalmente y de corazón las siguientes preguntas: ¿Cómo fue esta semana? ¿Cumplí mi programa de cambio? ¿Por qué “sí” o “no”? ¿Qué hice de bueno? ¿Qué debo mejorar? ¿Tuve algún problema? ¿Cómo puedo superar las barreras? Escriba lo que sea conveniente. Esto es importante para fijar nuevas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Footlight MT Light"/>
              </a:rPr>
              <a:t>Considere la Auto-instr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Las instrucciones de otros, así como las instrucciones propias (auto-instrucción) tienen mucho poder sobre la mente y la condu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Es una ley de la naturaleza que nuestros pensamientos y sentimientos resultan alentados y fortalecidos al darles expresión”. </a:t>
            </a:r>
            <a:r>
              <a:rPr b="0" i="1" lang="es-ES_tradnl" sz="2400" spc="-1" strike="noStrike">
                <a:solidFill>
                  <a:srgbClr val="000000"/>
                </a:solidFill>
                <a:latin typeface="Footlight MT Light"/>
              </a:rPr>
              <a:t>(Ministerio de Curación. pág. 19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Dé instrucciones a usted mismo, dé nuevas órdenes. Hable a sí mismo en voz alta o baja, converse sobre la práctica de su programa. Si prefiere, utilice un espejo de cuerpo ent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3. 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Footlight MT Light"/>
              </a:rPr>
              <a:t>Finalmente, considere el poder de la oración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Cuéntele su plan a Dios. Pídale que lo ayude, que le dé fuerzas para incorporar el nuevo hábito. Es muy importante que usted ore en voz alta. Escuche su propia oración y converse con la Fuente del Poder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Footlight MT Light"/>
              </a:rPr>
              <a:t>Recuerde: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Primero Dios, y las demás cosas vendrán. Así es en la vida espiritual y en las otras  áreas de la v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En este seminario, usted conocerá los 7 pasos de la auto-educación en salud y cómo aplicarlos a su vida perso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Formar un nuevo hábito no es fácil. Es necesario unir nuestra débil voluntad con la poderosa voluntad de Dios a través del Espíritu Sa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Por la repetición de los actos se establecen los hábitos y se confirma el carácter (</a:t>
            </a:r>
            <a:r>
              <a:rPr b="1" i="1" lang="es-ES_tradnl" sz="2800" spc="-1" strike="noStrike">
                <a:solidFill>
                  <a:srgbClr val="000000"/>
                </a:solidFill>
                <a:latin typeface="Footlight MT Light"/>
              </a:rPr>
              <a:t>Signs of the Times, 6-8-1912).”(Conducción del niño, pág. 1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Información importante: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Cuando se siguen fielmente las órdenes divinas, el Señor con su poder, se hace responsable por el éxito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Footlight MT Light"/>
              </a:rPr>
              <a:t>Reglas básicas para iniciar el cambio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Haga una lista de los hábitos de salud que le gustaría cambiar. Después elija uno. Un cambio por vez es mej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n uno o dos meses aprenderá la nueva conducta de salud, pues este es el tiempo aproximado para realizar los camb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Las grandes mudanzas suceden de manera progresiva y paulatina. Por ejemplo: si quiere sustituir el consumo de carne por otros alimentos, comience sustituyéndola sólo una vez por semana y así suces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l cambio debe ser siempre lo más conveniente y agradable po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Primer paso: 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stablezca la conducta, la meta y el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stablezca lo que es conducta negativa y conducta pos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j.: Tomo poca agua - conducta neg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Una vez que usted pensó y escogió la meta para el cambio,  escríbala con palabras simples, positivas y que sean med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j.: Tomar 6 vasos de agua por día. Evite les términos vagos como: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Footlight MT Light"/>
              </a:rPr>
              <a:t>tomar mucha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Después escriba con letras coloridas, especiales y grandes, en un pequeño cartel, una frase como  la siguiente: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j.: Mi meta: </a:t>
            </a:r>
            <a:r>
              <a:rPr b="0" i="1" lang="es-ES_tradnl" sz="2400" spc="-1" strike="noStrike">
                <a:solidFill>
                  <a:srgbClr val="000000"/>
                </a:solidFill>
                <a:latin typeface="Footlight MT Light"/>
              </a:rPr>
              <a:t>Tomar 6 a 8 vasos de agua por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Obs.: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 Ubique el cartel al lado del espejo del baño, en su cuarto, en la oficina, o en algún lugar donde lo vea consta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Segundo  paso: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 Haga una lista de los antecedentes de la conduct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Haga un buen análisis para saber qué experiencias condicionaron esta práctica de conducta negativa. Es necesario descubrir lo que facilitó y llevó a desarrollar el mal hábito que ahora quiere camb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Conteste las siguientes preguntas: ¿Por qué no tomo agua? ¿Por qué no me gusta tomar agua? Analice y encuentre las raz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Haga una lista de las razones del por qué no consigue beber agua su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Tercer paso: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 Haga una pequeña lista de las consecuencias de la conducta negativa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¿Qué podría suceder conmigo si continúo bebiendo poca agu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Haga una lista de probables consecuencias. Las siguientes situaciones podrían ser el resultado de no tomar agua: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digestión más len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cerebro obscureci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riñones con trabajo en exce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puedo sufrir de obstrucción  intest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puedo quedar sobre el peso i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Cuarto paso: Haga una lista de los beneficios de la meta del camb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ste es el momento para contestar las siguientes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a) ¿por qué debo camb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b) ¿cuáles son los beneficios de tomar 6 vasos de agua por d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Haga una lista de algunos beneficios percib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j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Footlight MT Light"/>
              </a:rPr>
              <a:t>Perderé pe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Footlight MT Light"/>
              </a:rPr>
              <a:t>Controlaré mejor mi deseo de comer en exce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Footlight MT Light"/>
              </a:rPr>
              <a:t>Tendré energía y el cerebro más despej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Footlight MT Light"/>
              </a:rPr>
              <a:t>Tendré mejor digest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Footlight MT Light"/>
              </a:rPr>
              <a:t>Mis riñones lo agradecerá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lida Ruiz</cp:lastModifiedBy>
  <dcterms:modified xsi:type="dcterms:W3CDTF">2007-10-29T23:16:2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