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6AF43-6E0D-462E-A675-8943DE860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D96A-FD1C-4B6B-8587-E09DDA6A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65166-F607-4B68-9625-1D77192CC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FE50F-2EEF-4788-8080-232EFFD0A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14FC-1C77-4260-9BAD-928ABA60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891A5-0C95-4F9D-B962-5110D3B66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EFE8B-B394-425B-BBB2-F1947BB91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696C-65D8-4F91-9420-7497655F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DB53D-3761-4BFF-BA5B-1B1E42A2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2CE1-F786-4BC8-8CD1-AB698549C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35EBA-6CE6-44C9-96EB-858D8000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96A2-0076-46E4-99DB-6A1891A2D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0C6F-981B-44B5-AF90-4A847839E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8000"/>
          </a:bodyPr>
          <a:p>
            <a:pPr marL="335880" indent="-3358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En la Biblia, en Levíticos capítulo 11, existe una gran lista de alimentos clasificados como “inmundos”, “impuros” o “abominables”. Ejemplos: liebre, cerdo, avestruz, peces sin escamas y otros animales. </a:t>
            </a:r>
            <a:endParaRPr b="0" lang="en-US" sz="3000" spc="-1" strike="noStrike">
              <a:solidFill>
                <a:srgbClr val="000000"/>
              </a:solidFill>
              <a:latin typeface="Arial"/>
            </a:endParaRPr>
          </a:p>
          <a:p>
            <a:pPr marL="335880" indent="-3358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os adventistas no comen carnes inmundas porque siguen las leyes de Dios. Para ser santos debemos obedecer las leyes del Seño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Footlight MT Light"/>
              </a:rPr>
              <a:t>“</a:t>
            </a:r>
            <a:r>
              <a:rPr b="1" lang="es-ES_tradnl" sz="3500" spc="-1" strike="noStrike">
                <a:solidFill>
                  <a:srgbClr val="000000"/>
                </a:solidFill>
                <a:latin typeface="Footlight MT Light"/>
              </a:rPr>
              <a:t>El e</a:t>
            </a:r>
            <a:r>
              <a:rPr b="1" i="1" lang="es-ES_tradnl" sz="3500" spc="-1" strike="noStrike">
                <a:solidFill>
                  <a:srgbClr val="000000"/>
                </a:solidFill>
                <a:latin typeface="Footlight MT Light"/>
              </a:rPr>
              <a:t>s quien perdona  todas tus iniquidades; quien sana todas tu enfermedades</a:t>
            </a:r>
            <a:r>
              <a:rPr b="1" lang="es-ES_tradnl" sz="3500" spc="-1" strike="noStrike">
                <a:solidFill>
                  <a:srgbClr val="000000"/>
                </a:solidFill>
                <a:latin typeface="Footlight MT Light"/>
              </a:rPr>
              <a:t>.”  </a:t>
            </a:r>
            <a:r>
              <a:rPr b="1" i="1" lang="es-ES_tradnl" sz="3500" spc="-1" strike="noStrike">
                <a:solidFill>
                  <a:srgbClr val="000000"/>
                </a:solidFill>
                <a:latin typeface="Footlight MT Light"/>
              </a:rPr>
              <a:t>(Salmos 103:3)</a:t>
            </a:r>
            <a:endParaRPr b="0" lang="en-US" sz="3500" spc="-1" strike="noStrike">
              <a:solidFill>
                <a:srgbClr val="000000"/>
              </a:solidFill>
              <a:latin typeface="Arial"/>
            </a:endParaRPr>
          </a:p>
          <a:p>
            <a:pPr marL="343080"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Footlight MT Light"/>
              </a:rPr>
              <a:t>Jesús tiene el poder de curar a los enfermos y perdonar a los pecadores.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Si es Dios quién cuida de nuestra salud ¿por qué necesitamos seguir las leyes y evitar ciertos alimentos?</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Footlight MT Light"/>
              </a:rPr>
              <a:t>Porque “aquél que aprecia la luz que el Señor le ha dado sobre la reforma pro salud tiene una ayuda importante en la obra en que está empeñado de santificarse por medio de la verdad y hacerse idóneo para la inmortalidad”. </a:t>
            </a:r>
            <a:r>
              <a:rPr b="0" i="1" lang="es-ES_tradnl" sz="2400" spc="-1" strike="noStrike">
                <a:solidFill>
                  <a:srgbClr val="000000"/>
                </a:solidFill>
                <a:latin typeface="Footlight MT Light"/>
              </a:rPr>
              <a:t>(Consejos sobre el Régimen Alimenticio, pág. 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457200" y="1294920"/>
            <a:ext cx="8229600" cy="4754520"/>
          </a:xfrm>
          <a:prstGeom prst="rect">
            <a:avLst/>
          </a:prstGeom>
          <a:noFill/>
          <a:ln w="0">
            <a:noFill/>
          </a:ln>
        </p:spPr>
        <p:txBody>
          <a:bodyPr lIns="90000" rIns="90000" tIns="46800" bIns="46800" anchor="t">
            <a:normAutofit fontScale="97000"/>
          </a:bodyPr>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onozca algunas situaciones sobre la relación entre comida y consagración</a:t>
            </a:r>
            <a:endParaRPr b="0" lang="en-US" sz="2800" spc="-1" strike="noStrike">
              <a:solidFill>
                <a:srgbClr val="000000"/>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Debemos aprender que la satisfacción de nuestros apetitos es el mayor obstáculo que pueda oponerse a nuestro progreso intelectual y a la santificación del alma”. </a:t>
            </a:r>
            <a:r>
              <a:rPr b="0" i="1" lang="es-ES_tradnl" sz="2400" spc="-1" strike="noStrike">
                <a:solidFill>
                  <a:srgbClr val="000000"/>
                </a:solidFill>
                <a:latin typeface="Footlight MT Light"/>
              </a:rPr>
              <a:t>(Ibíd., pág. 52)</a:t>
            </a:r>
            <a:endParaRPr b="0" lang="en-US" sz="2400" spc="-1" strike="noStrike">
              <a:solidFill>
                <a:srgbClr val="000000"/>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El uso de estimulantes antinaturales es destructivo para la salud, y tiene una influencia anubladora sobre el cerebro, porque le hace imposible apreciar las cosas eternas. Los que aprecian tales ídolos no pueden valorar debidamente la salvación que Cristo ha preparado para ellos”. </a:t>
            </a:r>
            <a:r>
              <a:rPr b="0" i="1" lang="es-ES_tradnl" sz="2400" spc="-1" strike="noStrike">
                <a:solidFill>
                  <a:srgbClr val="000000"/>
                </a:solidFill>
                <a:latin typeface="Footlight MT Light"/>
              </a:rPr>
              <a:t>(Ibíd., pág. 5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Cualquier cosa que disminuya la fuerza física, debilita la mente y la hace menos capaz de discernir entre lo bueno y lo malo”. </a:t>
            </a:r>
            <a:r>
              <a:rPr b="1" i="1" lang="es-ES_tradnl" sz="2400" spc="-1" strike="noStrike">
                <a:solidFill>
                  <a:srgbClr val="000000"/>
                </a:solidFill>
                <a:latin typeface="Footlight MT Light"/>
              </a:rPr>
              <a:t>(Ibíd., pág. 56)</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El régimen alimenticio tiene mucho que ver con la disposición a entrar en la tentación y cometer pecado”. </a:t>
            </a:r>
            <a:r>
              <a:rPr b="1" i="1" lang="es-ES_tradnl" sz="2400" spc="-1" strike="noStrike">
                <a:solidFill>
                  <a:srgbClr val="000000"/>
                </a:solidFill>
                <a:latin typeface="Footlight MT Light"/>
              </a:rPr>
              <a:t>(Ibíd., pág. 6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Cuidar la salud ayuda, pero no garantiza santidad y salvación.  Dios nos dio las leyes de la salud para facilitarnos el camino a la santificación.</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 “</a:t>
            </a:r>
            <a:r>
              <a:rPr b="1" i="1" lang="es-ES_tradnl" sz="3000" spc="-1" strike="noStrike">
                <a:solidFill>
                  <a:srgbClr val="000000"/>
                </a:solidFill>
                <a:latin typeface="Footlight MT Light"/>
              </a:rPr>
              <a:t>Porque el Reino de Dios no es comida ni bebida, sino justicia, paz, y alegría en el Espíritu Santo</a:t>
            </a:r>
            <a:r>
              <a:rPr b="1" lang="es-ES_tradnl" sz="3000" spc="-1" strike="noStrike">
                <a:solidFill>
                  <a:srgbClr val="000000"/>
                </a:solidFill>
                <a:latin typeface="Footlight MT Light"/>
              </a:rPr>
              <a:t>” </a:t>
            </a:r>
            <a:r>
              <a:rPr b="1" i="1" lang="es-ES_tradnl" sz="2400" spc="-1" strike="noStrike">
                <a:solidFill>
                  <a:srgbClr val="000000"/>
                </a:solidFill>
                <a:latin typeface="Footlight MT Light"/>
              </a:rPr>
              <a:t>(Rom 14: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343080"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0000"/>
                </a:solidFill>
                <a:latin typeface="Footlight MT Light"/>
              </a:rPr>
              <a:t>Sin embargo, andar en el camino de la santificación garantiza la promesa que Dios cuidará de nuestra salud.</a:t>
            </a:r>
            <a:endParaRPr b="0" lang="en-US" sz="33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Si oyeres atento la voz del Señor, tu Dios, y haces lo que es recto delante de sus ojos y das oído a sus mandamientos, y guardares todos sus estatutos, ninguna enfermedad vendrá  sobre ti, de las que envié sobre los egipcios; pues Yo soy el Señor, que te sana”.</a:t>
            </a:r>
            <a:r>
              <a:rPr b="1" i="1" lang="es-ES_tradnl" sz="2800" spc="-1" strike="noStrike">
                <a:solidFill>
                  <a:srgbClr val="000000"/>
                </a:solidFill>
                <a:latin typeface="Footlight MT Light"/>
              </a:rPr>
              <a:t> </a:t>
            </a:r>
            <a:r>
              <a:rPr b="1" i="1" lang="es-ES_tradnl" sz="3300" spc="-1" strike="noStrike">
                <a:solidFill>
                  <a:srgbClr val="000000"/>
                </a:solidFill>
                <a:latin typeface="Footlight MT Light"/>
              </a:rPr>
              <a:t> </a:t>
            </a:r>
            <a:r>
              <a:rPr b="1" i="1" lang="es-ES_tradnl" sz="2000" spc="-1" strike="noStrike">
                <a:solidFill>
                  <a:srgbClr val="000000"/>
                </a:solidFill>
                <a:latin typeface="Footlight MT Light"/>
              </a:rPr>
              <a:t>(Exo. 15: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Gazioli</cp:lastModifiedBy>
  <dcterms:modified xsi:type="dcterms:W3CDTF">2007-10-28T14:17:1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