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3.png" ContentType="image/png"/>
  <Override PartName="/ppt/media/image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10.png" ContentType="image/png"/>
  <Override PartName="/ppt/media/image22.jpeg" ContentType="image/jpeg"/>
  <Override PartName="/ppt/media/image9.png" ContentType="image/png"/>
  <Override PartName="/ppt/media/image16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1200-AD9C-4EA6-966F-43E188DC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D349-4E71-4845-B7C5-F0A0B7F3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F4F-F128-47BB-A9AA-56F0E3C7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AF3-54C7-4CA3-997C-F55AB21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D63-6B4D-4690-B671-50AF0740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361-08BF-4EC0-8868-E4295763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ED17-7DAA-4BDB-9A4A-BD50A5B8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9B18-802F-47F0-8260-66578F9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AAC9-448F-4666-81FD-4DED7B50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3EE1-0F1E-4A15-900F-6B9B24C3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D599-6B16-4998-9DE0-DD08A415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AE8D-E778-4076-AD75-0F98CA5F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8146-5E07-4870-80B6-72502745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EA5-71DF-42E3-9DA6-02FDAACB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CF46-5C16-4712-B698-2DE1EA32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3D98-BA02-4329-AD38-D54EA6AF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4BEA-A87C-4EC9-B56E-0848F788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63FD-746C-4D5E-A921-7813C390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647C-4818-4500-A469-9E1F2CCF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6F83-4A16-4853-A048-7F9B35E6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6A036-40BA-4001-81DA-EDB42C19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0B58-7ABF-4CC1-A57C-FC1A0EC0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A9BF-000B-4883-B634-A7E69CB2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0F4D0-911D-4FC3-91A7-B53A1271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B67-1202-42AA-926A-D65BC24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4E57-9B12-4EEC-9774-56FAE3E5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C7120-BB7B-4D5F-8BA5-32250051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1ACB-82F2-4835-8A17-4B6056CE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7279-EB28-42B5-AA0B-3FD42FD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55417-BDFB-4B4F-BE85-7ED4F1D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C37E-3EA6-4E69-8F96-91944979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12E8-663B-4975-9FF7-86D1259F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9B8E-2E7C-4BD3-A6D6-CF016F4F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EB2A9-B269-44D5-9F39-1B2EBA3E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314F-97D9-4A10-8B72-EEED98EB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BE2-BB6E-4B23-B9F9-1FF9F05F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FACE-9ED7-466D-8100-F187322F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C4A73-E3F7-490B-96D8-AF788067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CD66-7B0F-447A-90DD-3E51808A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8725-6B51-4EB9-BDD5-38B8958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139B-34B9-4D7A-A13A-D6E75290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E77B-1B1E-4A34-8F19-E1F3897E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7CDD-5AD5-402E-AFDD-912F6209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9EC2-031D-4801-B2A3-6AE7FD0E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4D03-3965-45FD-8B7B-F16E773D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7CE3-11DD-4965-B390-66B206AA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F39-69DD-4F00-97B8-6179998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64E4-F82E-4B7B-A8BF-BBEC0246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EDB1-5A91-45B6-9B34-F3B6F8DA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AFB47-1CA2-4AF0-BD49-8592614B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21B4B-D1A1-4BE7-A1FE-F7B79DAF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2A06-ED14-4CBF-924C-AA674862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48963-54BD-49E3-9034-80AAE2E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8F202-A2E3-4B6B-9318-4AD0D86B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1C28F-1706-4B41-8F0C-844C173C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2D869-DCC1-45F1-87D1-D45C8718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A5DE3-E437-4844-B923-F40BED5E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6F6-264F-4A86-8229-9CA0C83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5E947-E702-4A53-BFAF-6328DCAE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E33-3B4B-4143-8CA8-1666E43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26F-6422-4860-8F9B-D091AE5C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D5F-C261-4056-9D6B-6A60385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B09-C9A3-4817-9CA6-21621D5CCDC7}" type="slidenum"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C3E3-A04F-4B7D-9FCD-A4F30F1742E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D1FA-4929-443F-9E40-9A9746326A62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AFA-129F-442E-ADBD-7B0B721715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8390-0A97-4B6D-AB31-881568099C8D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WordArt 2" descr=""/>
          <p:cNvPicPr/>
          <p:nvPr/>
        </p:nvPicPr>
        <p:blipFill>
          <a:blip r:embed="rId1"/>
          <a:stretch/>
        </p:blipFill>
        <p:spPr>
          <a:xfrm>
            <a:off x="73080" y="907920"/>
            <a:ext cx="8699400" cy="3902040"/>
          </a:xfrm>
          <a:prstGeom prst="rect">
            <a:avLst/>
          </a:prstGeom>
          <a:ln w="0">
            <a:noFill/>
          </a:ln>
        </p:spPr>
      </p:pic>
      <p:pic>
        <p:nvPicPr>
          <p:cNvPr id="213" name="Rectangle 3" descr=""/>
          <p:cNvPicPr/>
          <p:nvPr/>
        </p:nvPicPr>
        <p:blipFill>
          <a:blip r:embed="rId2"/>
          <a:stretch/>
        </p:blipFill>
        <p:spPr>
          <a:xfrm>
            <a:off x="2932200" y="3273480"/>
            <a:ext cx="6649920" cy="308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83356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3" descr=""/>
          <p:cNvPicPr/>
          <p:nvPr/>
        </p:nvPicPr>
        <p:blipFill>
          <a:blip r:embed="rId2"/>
          <a:stretch/>
        </p:blipFill>
        <p:spPr>
          <a:xfrm>
            <a:off x="208080" y="2951280"/>
            <a:ext cx="13452480" cy="3595680"/>
          </a:xfrm>
          <a:prstGeom prst="rect">
            <a:avLst/>
          </a:prstGeom>
          <a:ln w="0">
            <a:noFill/>
          </a:ln>
        </p:spPr>
      </p:pic>
      <p:sp>
        <p:nvSpPr>
          <p:cNvPr id="237" name="Flowchart: Punched Tape 4"/>
          <p:cNvSpPr/>
          <p:nvPr/>
        </p:nvSpPr>
        <p:spPr>
          <a:xfrm>
            <a:off x="3048120" y="380880"/>
            <a:ext cx="5715000" cy="236232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Balloon Extra"/>
              </a:rPr>
              <a:t>CONSULTA TU BIBLIA Y RESPO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0602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Text Box 3" descr=""/>
          <p:cNvPicPr/>
          <p:nvPr/>
        </p:nvPicPr>
        <p:blipFill>
          <a:blip r:embed="rId2"/>
          <a:stretch/>
        </p:blipFill>
        <p:spPr>
          <a:xfrm>
            <a:off x="927000" y="2919240"/>
            <a:ext cx="7296120" cy="2713320"/>
          </a:xfrm>
          <a:prstGeom prst="rect">
            <a:avLst/>
          </a:prstGeom>
          <a:ln w="0">
            <a:noFill/>
          </a:ln>
        </p:spPr>
      </p:pic>
      <p:sp>
        <p:nvSpPr>
          <p:cNvPr id="240" name="WordArt 4"/>
          <p:cNvSpPr txBox="1"/>
          <p:nvPr/>
        </p:nvSpPr>
        <p:spPr>
          <a:xfrm>
            <a:off x="428760" y="571680"/>
            <a:ext cx="7877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NO COMETERÁS ADULTERIO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702019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702018.JPG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5929200" y="1857240"/>
            <a:ext cx="3000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ay cosas que en la vida son sólo para dos, tan sólo dos…                    (José Luis Per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BODA06.JPG"/>
          <p:cNvPicPr/>
          <p:nvPr/>
        </p:nvPicPr>
        <p:blipFill>
          <a:blip r:embed="rId1"/>
          <a:stretch/>
        </p:blipFill>
        <p:spPr>
          <a:xfrm>
            <a:off x="0" y="0"/>
            <a:ext cx="5500800" cy="68756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5857920" y="46432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laquías 2:14,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83356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3" descr=""/>
          <p:cNvPicPr/>
          <p:nvPr/>
        </p:nvPicPr>
        <p:blipFill>
          <a:blip r:embed="rId2"/>
          <a:stretch/>
        </p:blipFill>
        <p:spPr>
          <a:xfrm>
            <a:off x="208080" y="3754440"/>
            <a:ext cx="13452480" cy="2768760"/>
          </a:xfrm>
          <a:prstGeom prst="rect">
            <a:avLst/>
          </a:prstGeom>
          <a:ln w="0">
            <a:noFill/>
          </a:ln>
        </p:spPr>
      </p:pic>
      <p:sp>
        <p:nvSpPr>
          <p:cNvPr id="248" name="Flowchart: Punched Tape 4"/>
          <p:cNvSpPr/>
          <p:nvPr/>
        </p:nvSpPr>
        <p:spPr>
          <a:xfrm>
            <a:off x="3048120" y="380880"/>
            <a:ext cx="5715000" cy="236232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Balloon Extra"/>
              </a:rPr>
              <a:t>CONSULTA TU BIBLIA Y RESPO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0602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785880" y="2786040"/>
            <a:ext cx="756756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Condena el robo de afectos y  bienes. Exige honestidad en nuestros negocios, impuestos, devolución de préstamos, etc..    (2 Cor. 8,9).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1785960" y="571680"/>
            <a:ext cx="55008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NO HURTARÁS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73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8335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3" descr=""/>
          <p:cNvPicPr/>
          <p:nvPr/>
        </p:nvPicPr>
        <p:blipFill>
          <a:blip r:embed="rId2"/>
          <a:stretch/>
        </p:blipFill>
        <p:spPr>
          <a:xfrm>
            <a:off x="-42840" y="3681360"/>
            <a:ext cx="15160680" cy="2768760"/>
          </a:xfrm>
          <a:prstGeom prst="rect">
            <a:avLst/>
          </a:prstGeom>
          <a:ln w="0">
            <a:noFill/>
          </a:ln>
        </p:spPr>
      </p:pic>
      <p:sp>
        <p:nvSpPr>
          <p:cNvPr id="255" name="Flowchart: Punched Tape 4"/>
          <p:cNvSpPr/>
          <p:nvPr/>
        </p:nvSpPr>
        <p:spPr>
          <a:xfrm>
            <a:off x="3048120" y="380880"/>
            <a:ext cx="5715000" cy="236232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Balloon Extra"/>
              </a:rPr>
              <a:t>CONSULTA TU BIBLIA Y RESPO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0602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1071720" y="3276720"/>
            <a:ext cx="735804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Denuncia la mentira, el arma preferida del enemigo. Son también condenadas las verdades a medias. (Mat 5:33-37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4"/>
          <p:cNvSpPr txBox="1"/>
          <p:nvPr/>
        </p:nvSpPr>
        <p:spPr>
          <a:xfrm>
            <a:off x="928800" y="428760"/>
            <a:ext cx="7429320" cy="25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NO LEVANTARÁS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 </a:t>
            </a: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FALSO TESTIMONIO 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mano color1.jpg"/>
          <p:cNvPicPr/>
          <p:nvPr/>
        </p:nvPicPr>
        <p:blipFill>
          <a:blip r:embed="rId1"/>
          <a:stretch/>
        </p:blipFill>
        <p:spPr>
          <a:xfrm>
            <a:off x="500040" y="857160"/>
            <a:ext cx="3328920" cy="259092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2" descr=""/>
          <p:cNvPicPr/>
          <p:nvPr/>
        </p:nvPicPr>
        <p:blipFill>
          <a:blip r:embed="rId2"/>
          <a:stretch/>
        </p:blipFill>
        <p:spPr>
          <a:xfrm>
            <a:off x="3925800" y="-128520"/>
            <a:ext cx="5205600" cy="39988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3" descr=""/>
          <p:cNvPicPr/>
          <p:nvPr/>
        </p:nvPicPr>
        <p:blipFill>
          <a:blip r:embed="rId3"/>
          <a:stretch/>
        </p:blipFill>
        <p:spPr>
          <a:xfrm>
            <a:off x="281160" y="3517920"/>
            <a:ext cx="8581680" cy="383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MUJER_11.JPG"/>
          <p:cNvPicPr/>
          <p:nvPr/>
        </p:nvPicPr>
        <p:blipFill>
          <a:blip r:embed="rId1"/>
          <a:stretch/>
        </p:blipFill>
        <p:spPr>
          <a:xfrm>
            <a:off x="3571920" y="0"/>
            <a:ext cx="5572080" cy="68976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"/>
          <p:cNvSpPr/>
          <p:nvPr/>
        </p:nvSpPr>
        <p:spPr>
          <a:xfrm>
            <a:off x="285840" y="1928880"/>
            <a:ext cx="3000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e dice que la mentira tiene piernas corta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83356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3" descr=""/>
          <p:cNvPicPr/>
          <p:nvPr/>
        </p:nvPicPr>
        <p:blipFill>
          <a:blip r:embed="rId2"/>
          <a:stretch/>
        </p:blipFill>
        <p:spPr>
          <a:xfrm>
            <a:off x="208080" y="2951280"/>
            <a:ext cx="13452480" cy="3595680"/>
          </a:xfrm>
          <a:prstGeom prst="rect">
            <a:avLst/>
          </a:prstGeom>
          <a:ln w="0">
            <a:noFill/>
          </a:ln>
        </p:spPr>
      </p:pic>
      <p:sp>
        <p:nvSpPr>
          <p:cNvPr id="263" name="Flowchart: Punched Tape 4"/>
          <p:cNvSpPr/>
          <p:nvPr/>
        </p:nvSpPr>
        <p:spPr>
          <a:xfrm>
            <a:off x="3048120" y="380880"/>
            <a:ext cx="5715000" cy="236232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Balloon Extra"/>
              </a:rPr>
              <a:t>CONSULTA TU BIBLIA Y RESPO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0602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642960" y="3164040"/>
            <a:ext cx="77151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Arial"/>
              </a:rPr>
              <a:t>Reprende la codicia en todas sus manifestaciones, sea de personas o de bienes, ya que se la reconoce como la base de la mayoría de los otros pecados                                             (1 Tim. 6:10; 1 Cor. 10: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685800" y="357120"/>
            <a:ext cx="7800840" cy="20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NO CODICIARÁS…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BIEN ALGUNO 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DE TU PROJIMO</a:t>
            </a:r>
            <a:endParaRPr b="0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MULTITUD.JPG"/>
          <p:cNvPicPr/>
          <p:nvPr/>
        </p:nvPicPr>
        <p:blipFill>
          <a:blip r:embed="rId1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MANOS_EN.JPG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5143680" y="0"/>
            <a:ext cx="371448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Los mandamientos del Señor son rectos, que alegran el corazón. El precepto del Señor es puro, que alumbra los ojos… Hay una gran recompensa por guardarlos.  Salmo 19:8,11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2fff0"/>
                </a:solidFill>
                <a:latin typeface="Georgia"/>
                <a:ea typeface="Times New Roman"/>
              </a:rPr>
              <a:t>La lógica conclusión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04920" y="1371600"/>
            <a:ext cx="48006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“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La conclusión de todo el discurso oído es ésta:                    1) </a:t>
            </a:r>
            <a:r>
              <a:rPr b="1" i="1" lang="es-ES_tradnl" sz="3200" spc="-1" strike="noStrike" u="sng">
                <a:solidFill>
                  <a:srgbClr val="ffff00"/>
                </a:solidFill>
                <a:uFillTx/>
                <a:latin typeface="Verdana"/>
                <a:ea typeface="Times New Roman"/>
              </a:rPr>
              <a:t>Teme a Di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 y      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2)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guarda sus mandamient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, pues esto es el  todo del hombre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  <a:ea typeface="Times New Roman"/>
              </a:rPr>
              <a:t>(Ecl. 12: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-1066680" y="27432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Instrumental - Pista 07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24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TextBox 2" descr=""/>
          <p:cNvPicPr/>
          <p:nvPr/>
        </p:nvPicPr>
        <p:blipFill>
          <a:blip r:embed="rId2"/>
          <a:stretch/>
        </p:blipFill>
        <p:spPr>
          <a:xfrm>
            <a:off x="23760" y="2992320"/>
            <a:ext cx="3841920" cy="332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83356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3" descr=""/>
          <p:cNvPicPr/>
          <p:nvPr/>
        </p:nvPicPr>
        <p:blipFill>
          <a:blip r:embed="rId2"/>
          <a:stretch/>
        </p:blipFill>
        <p:spPr>
          <a:xfrm>
            <a:off x="208080" y="2951280"/>
            <a:ext cx="14617440" cy="3595680"/>
          </a:xfrm>
          <a:prstGeom prst="rect">
            <a:avLst/>
          </a:prstGeom>
          <a:ln w="0">
            <a:noFill/>
          </a:ln>
        </p:spPr>
      </p:pic>
      <p:sp>
        <p:nvSpPr>
          <p:cNvPr id="221" name="Flowchart: Punched Tape 4"/>
          <p:cNvSpPr/>
          <p:nvPr/>
        </p:nvSpPr>
        <p:spPr>
          <a:xfrm>
            <a:off x="3048120" y="380880"/>
            <a:ext cx="5715000" cy="236232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Balloon Extra"/>
              </a:rPr>
              <a:t>CONSULTA TU BIBLIA Y RESPO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MOISET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4572000" y="1214280"/>
            <a:ext cx="457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alloon Extra"/>
              </a:rPr>
              <a:t>Dios le dio a Moisés los Diez Mandamientos en dos tablas de pie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0604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428760" y="2143080"/>
            <a:ext cx="235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1ª: El amor a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5572080" y="3500280"/>
            <a:ext cx="276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2ª: El amor al prój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3" descr=""/>
          <p:cNvPicPr/>
          <p:nvPr/>
        </p:nvPicPr>
        <p:blipFill>
          <a:blip r:embed="rId2"/>
          <a:stretch/>
        </p:blipFill>
        <p:spPr>
          <a:xfrm>
            <a:off x="208080" y="2981160"/>
            <a:ext cx="12239640" cy="3383280"/>
          </a:xfrm>
          <a:prstGeom prst="rect">
            <a:avLst/>
          </a:prstGeom>
          <a:ln w="0">
            <a:noFill/>
          </a:ln>
        </p:spPr>
      </p:pic>
      <p:sp>
        <p:nvSpPr>
          <p:cNvPr id="229" name="Flowchart: Punched Tape 4"/>
          <p:cNvSpPr/>
          <p:nvPr/>
        </p:nvSpPr>
        <p:spPr>
          <a:xfrm>
            <a:off x="3048120" y="380880"/>
            <a:ext cx="5715000" cy="236232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Balloon Extra"/>
              </a:rPr>
              <a:t>CONSULTA TU BIBLIA Y RESPON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0602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Text Box 3" descr=""/>
          <p:cNvPicPr/>
          <p:nvPr/>
        </p:nvPicPr>
        <p:blipFill>
          <a:blip r:embed="rId2"/>
          <a:stretch/>
        </p:blipFill>
        <p:spPr>
          <a:xfrm>
            <a:off x="841320" y="2938320"/>
            <a:ext cx="7839000" cy="3627720"/>
          </a:xfrm>
          <a:prstGeom prst="rect">
            <a:avLst/>
          </a:prstGeom>
          <a:ln w="0">
            <a:noFill/>
          </a:ln>
        </p:spPr>
      </p:pic>
      <p:sp>
        <p:nvSpPr>
          <p:cNvPr id="232" name="WordArt 4"/>
          <p:cNvSpPr txBox="1"/>
          <p:nvPr/>
        </p:nvSpPr>
        <p:spPr>
          <a:xfrm>
            <a:off x="1143000" y="571680"/>
            <a:ext cx="6786720" cy="17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HONRA A TU PADRE </a:t>
            </a:r>
            <a:endParaRPr b="0" lang="en-US" sz="54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Y A TU MADRE… </a:t>
            </a:r>
            <a:endParaRPr b="0" lang="en-US" sz="5400" spc="1" strike="noStrike">
              <a:ln w="2232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boy child book Jesus learn.jpg"/>
          <p:cNvPicPr/>
          <p:nvPr/>
        </p:nvPicPr>
        <p:blipFill>
          <a:blip r:embed="rId1"/>
          <a:stretch/>
        </p:blipFill>
        <p:spPr>
          <a:xfrm>
            <a:off x="0" y="0"/>
            <a:ext cx="491184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783096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3:55:50Z</dcterms:created>
  <dc:creator>Carlos Rando</dc:creator>
  <dc:description/>
  <dc:language>en-US</dc:language>
  <cp:lastModifiedBy>WILBERT123</cp:lastModifiedBy>
  <dcterms:modified xsi:type="dcterms:W3CDTF">2009-03-30T07:06:24Z</dcterms:modified>
  <cp:revision>9</cp:revision>
  <dc:subject/>
  <dc:title>Slide 1</dc:title>
</cp:coreProperties>
</file>